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9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09120" y="41040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16761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41040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708800" y="41040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4520" y="16761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19920" y="16761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09120" y="41040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14520" y="41040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19920" y="41040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8800" y="16761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2640" y="456840"/>
            <a:ext cx="690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8800" y="16761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9120" y="41040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8800" y="16761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08800" y="41040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800" y="16761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120" y="41040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840" y="6480"/>
            <a:ext cx="9144360" cy="6832440"/>
            <a:chOff x="-6840" y="6480"/>
            <a:chExt cx="9144360" cy="6832440"/>
          </a:xfrm>
        </p:grpSpPr>
        <p:sp>
          <p:nvSpPr>
            <p:cNvPr id="1" name=""/>
            <p:cNvSpPr/>
            <p:nvPr/>
          </p:nvSpPr>
          <p:spPr>
            <a:xfrm flipH="1">
              <a:off x="-6480" y="6480"/>
              <a:ext cx="654480" cy="71100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-6480" y="6480"/>
              <a:ext cx="1162800" cy="128268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-6480" y="6480"/>
              <a:ext cx="1687680" cy="187308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-6480" y="6480"/>
              <a:ext cx="2178720" cy="242568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-6840" y="6480"/>
              <a:ext cx="2686680" cy="299700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-6840" y="6480"/>
              <a:ext cx="3211560" cy="358776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6840" y="6480"/>
              <a:ext cx="3736440" cy="417816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-6840" y="6480"/>
              <a:ext cx="4278600" cy="47876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-6480" y="6480"/>
              <a:ext cx="4769280" cy="53402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-6480" y="6480"/>
              <a:ext cx="5311440" cy="594972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-6480" y="6480"/>
              <a:ext cx="5836320" cy="654048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75400" y="6480"/>
              <a:ext cx="6095880" cy="68324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783360" y="6480"/>
              <a:ext cx="6095880" cy="68324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308240" y="6480"/>
              <a:ext cx="6095880" cy="68324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782360" y="6480"/>
              <a:ext cx="6095880" cy="68324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307240" y="6480"/>
              <a:ext cx="6095880" cy="68324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2804040" y="12600"/>
              <a:ext cx="6090120" cy="682632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3837240" y="901800"/>
              <a:ext cx="5299920" cy="593712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4311000" y="1434960"/>
              <a:ext cx="4825800" cy="540396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4802760" y="1987560"/>
              <a:ext cx="4334400" cy="485136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5310360" y="2558880"/>
              <a:ext cx="3826800" cy="42800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5852520" y="3168720"/>
              <a:ext cx="3284640" cy="367020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6393960" y="3778200"/>
              <a:ext cx="2742840" cy="306072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6902280" y="4349880"/>
              <a:ext cx="2234880" cy="24890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7427160" y="4940280"/>
              <a:ext cx="1710000" cy="18986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7918200" y="5492880"/>
              <a:ext cx="1218960" cy="13460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8391960" y="6026040"/>
              <a:ext cx="744840" cy="81288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8866800" y="6559560"/>
              <a:ext cx="270720" cy="27936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-6480" y="6480"/>
              <a:ext cx="214560" cy="2156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3357360" y="368280"/>
              <a:ext cx="5774400" cy="64706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461880" y="463680"/>
            <a:ext cx="8218440" cy="5930640"/>
          </a:xfrm>
          <a:prstGeom prst="rect">
            <a:avLst/>
          </a:prstGeom>
          <a:gradFill rotWithShape="0">
            <a:gsLst>
              <a:gs pos="0">
                <a:srgbClr val="33546d"/>
              </a:gs>
              <a:gs pos="100000">
                <a:srgbClr val="6fb7e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5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1"/>
          </p:nvPr>
        </p:nvSpPr>
        <p:spPr>
          <a:xfrm>
            <a:off x="228600" y="64771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8472600" y="646668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B824-59C3-4B41-984B-B77D48AECA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527"/>
                </a:solidFill>
                <a:latin typeface="Times New Roman"/>
              </a:rPr>
              <a:t>Recalage 3D élastique multimodalité par optimisation génétiqu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905120" y="3048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Jean-Michel Rou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038480"/>
            <a:ext cx="7848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École Nationale Supérieure des Télécommunications de Bretag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épartement Image et Traitement de l’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TIM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A 22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est, le 8 décembre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nctionnelle ou mesure de distance entre deux surfaces numériques S</a:t>
            </a:r>
            <a:r>
              <a:rPr b="0" lang="fr-FR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et S</a:t>
            </a:r>
            <a:r>
              <a:rPr b="0" lang="fr-F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stance euclidienne stochas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mplémentation de la méthode de Pelizzari (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head ha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33480" y="3276720"/>
                <a:ext cx="5934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828800" y="5784840"/>
                <a:ext cx="5397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c  </m:t>
                    </m:r>
                    <m:r>
                      <m:t xml:space="preserve">∀</m:t>
                    </m:r>
                    <m:r>
                      <m:t xml:space="preserve">p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09480" y="4192560"/>
            <a:ext cx="8001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c une approche stochastique et utilisation d’une carte distance pour accélérer le calc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828800" y="4853160"/>
                <a:ext cx="4162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sub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09" name="carte_distance" descr=""/>
          <p:cNvPicPr/>
          <p:nvPr/>
        </p:nvPicPr>
        <p:blipFill>
          <a:blip r:embed="rId1"/>
          <a:stretch/>
        </p:blipFill>
        <p:spPr>
          <a:xfrm>
            <a:off x="7485120" y="477684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210" name="coupe+bord_irm" descr=""/>
          <p:cNvPicPr/>
          <p:nvPr/>
        </p:nvPicPr>
        <p:blipFill>
          <a:blip r:embed="rId2"/>
          <a:stretch/>
        </p:blipFill>
        <p:spPr>
          <a:xfrm>
            <a:off x="108000" y="4776840"/>
            <a:ext cx="1547640" cy="15476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066680" y="3537000"/>
            <a:ext cx="1605240" cy="1415880"/>
            <a:chOff x="1066680" y="3537000"/>
            <a:chExt cx="1605240" cy="1415880"/>
          </a:xfrm>
        </p:grpSpPr>
        <p:sp>
          <p:nvSpPr>
            <p:cNvPr id="212" name=""/>
            <p:cNvSpPr/>
            <p:nvPr/>
          </p:nvSpPr>
          <p:spPr>
            <a:xfrm>
              <a:off x="1066680" y="3537000"/>
              <a:ext cx="1605240" cy="1415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168560" y="3662280"/>
              <a:ext cx="1217520" cy="1182600"/>
              <a:chOff x="1168560" y="3662280"/>
              <a:chExt cx="1217520" cy="1182600"/>
            </a:xfrm>
          </p:grpSpPr>
          <p:sp>
            <p:nvSpPr>
              <p:cNvPr id="214" name=""/>
              <p:cNvSpPr/>
              <p:nvPr/>
            </p:nvSpPr>
            <p:spPr>
              <a:xfrm>
                <a:off x="1606680" y="4120920"/>
                <a:ext cx="125280" cy="125640"/>
              </a:xfrm>
              <a:prstGeom prst="diamond">
                <a:avLst/>
              </a:prstGeom>
              <a:solidFill>
                <a:srgbClr val="fff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19160" y="3887640"/>
                <a:ext cx="125640" cy="125640"/>
              </a:xfrm>
              <a:prstGeom prst="diamond">
                <a:avLst/>
              </a:prstGeom>
              <a:solidFill>
                <a:srgbClr val="fff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60440" y="3662280"/>
                <a:ext cx="125640" cy="125280"/>
              </a:xfrm>
              <a:prstGeom prst="diamond">
                <a:avLst/>
              </a:prstGeom>
              <a:solidFill>
                <a:srgbClr val="fff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38120" y="4343400"/>
                <a:ext cx="125640" cy="125280"/>
              </a:xfrm>
              <a:prstGeom prst="diamond">
                <a:avLst/>
              </a:prstGeom>
              <a:solidFill>
                <a:srgbClr val="fff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68560" y="4719600"/>
                <a:ext cx="125280" cy="125280"/>
              </a:xfrm>
              <a:prstGeom prst="diamond">
                <a:avLst/>
              </a:prstGeom>
              <a:solidFill>
                <a:srgbClr val="fff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184400" y="3546360"/>
              <a:ext cx="1452600" cy="1354320"/>
            </a:xfrm>
            <a:custGeom>
              <a:avLst/>
              <a:gdLst/>
              <a:ahLst/>
              <a:rect l="l" t="t" r="r" b="b"/>
              <a:pathLst>
                <a:path w="915" h="853">
                  <a:moveTo>
                    <a:pt x="0" y="853"/>
                  </a:moveTo>
                  <a:cubicBezTo>
                    <a:pt x="28" y="794"/>
                    <a:pt x="23" y="639"/>
                    <a:pt x="175" y="497"/>
                  </a:cubicBezTo>
                  <a:cubicBezTo>
                    <a:pt x="327" y="355"/>
                    <a:pt x="761" y="104"/>
                    <a:pt x="915" y="0"/>
                  </a:cubicBezTo>
                </a:path>
              </a:pathLst>
            </a:custGeom>
            <a:noFill/>
            <a:ln w="28440">
              <a:solidFill>
                <a:srgbClr val="fff5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880240" y="3537000"/>
            <a:ext cx="1604880" cy="1415880"/>
            <a:chOff x="5880240" y="3537000"/>
            <a:chExt cx="1604880" cy="1415880"/>
          </a:xfrm>
        </p:grpSpPr>
        <p:grpSp>
          <p:nvGrpSpPr>
            <p:cNvPr id="221" name=""/>
            <p:cNvGrpSpPr/>
            <p:nvPr/>
          </p:nvGrpSpPr>
          <p:grpSpPr>
            <a:xfrm>
              <a:off x="5880240" y="3537000"/>
              <a:ext cx="1604880" cy="1415880"/>
              <a:chOff x="5880240" y="3537000"/>
              <a:chExt cx="1604880" cy="1415880"/>
            </a:xfrm>
          </p:grpSpPr>
          <p:sp>
            <p:nvSpPr>
              <p:cNvPr id="222" name=""/>
              <p:cNvSpPr/>
              <p:nvPr/>
            </p:nvSpPr>
            <p:spPr>
              <a:xfrm>
                <a:off x="5880240" y="3537000"/>
                <a:ext cx="1604880" cy="14158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64200" y="3556080"/>
                <a:ext cx="1000080" cy="1361880"/>
              </a:xfrm>
              <a:custGeom>
                <a:avLst/>
                <a:gdLst/>
                <a:ahLst/>
                <a:rect l="l" t="t" r="r" b="b"/>
                <a:pathLst>
                  <a:path w="630" h="858">
                    <a:moveTo>
                      <a:pt x="37" y="858"/>
                    </a:moveTo>
                    <a:cubicBezTo>
                      <a:pt x="47" y="777"/>
                      <a:pt x="0" y="515"/>
                      <a:pt x="99" y="372"/>
                    </a:cubicBezTo>
                    <a:cubicBezTo>
                      <a:pt x="198" y="229"/>
                      <a:pt x="520" y="77"/>
                      <a:pt x="630" y="0"/>
                    </a:cubicBezTo>
                  </a:path>
                </a:pathLst>
              </a:custGeom>
              <a:noFill/>
              <a:ln w="28440">
                <a:solidFill>
                  <a:srgbClr val="00b7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070680" y="3633840"/>
              <a:ext cx="825480" cy="1172880"/>
              <a:chOff x="6070680" y="3633840"/>
              <a:chExt cx="825480" cy="1172880"/>
            </a:xfrm>
          </p:grpSpPr>
          <p:sp>
            <p:nvSpPr>
              <p:cNvPr id="225" name=""/>
              <p:cNvSpPr/>
              <p:nvPr/>
            </p:nvSpPr>
            <p:spPr>
              <a:xfrm>
                <a:off x="6294240" y="3938400"/>
                <a:ext cx="125640" cy="125640"/>
              </a:xfrm>
              <a:prstGeom prst="diamond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527880" y="3778200"/>
                <a:ext cx="125280" cy="125280"/>
              </a:xfrm>
              <a:prstGeom prst="diamond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70520" y="3633840"/>
                <a:ext cx="125640" cy="125280"/>
              </a:xfrm>
              <a:prstGeom prst="diamond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24320" y="4145040"/>
                <a:ext cx="125640" cy="125280"/>
              </a:xfrm>
              <a:prstGeom prst="diamond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070680" y="4413240"/>
                <a:ext cx="125280" cy="125280"/>
              </a:xfrm>
              <a:prstGeom prst="diamond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70680" y="4681440"/>
                <a:ext cx="125280" cy="125280"/>
              </a:xfrm>
              <a:prstGeom prst="diamond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6419880" y="4121280"/>
            <a:ext cx="125280" cy="125280"/>
          </a:xfrm>
          <a:prstGeom prst="diamond">
            <a:avLst/>
          </a:prstGeom>
          <a:solidFill>
            <a:srgbClr val="fff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32720" y="3887640"/>
            <a:ext cx="125280" cy="125640"/>
          </a:xfrm>
          <a:prstGeom prst="diamond">
            <a:avLst/>
          </a:prstGeom>
          <a:solidFill>
            <a:srgbClr val="fff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74000" y="3662280"/>
            <a:ext cx="125280" cy="125640"/>
          </a:xfrm>
          <a:prstGeom prst="diamond">
            <a:avLst/>
          </a:prstGeom>
          <a:solidFill>
            <a:srgbClr val="fff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51680" y="4343400"/>
            <a:ext cx="125280" cy="125280"/>
          </a:xfrm>
          <a:prstGeom prst="diamond">
            <a:avLst/>
          </a:prstGeom>
          <a:solidFill>
            <a:srgbClr val="fff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81760" y="4719600"/>
            <a:ext cx="125280" cy="125280"/>
          </a:xfrm>
          <a:prstGeom prst="diamond">
            <a:avLst/>
          </a:prstGeom>
          <a:solidFill>
            <a:srgbClr val="fff5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053040" y="4740120"/>
            <a:ext cx="76320" cy="4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56520" y="4000680"/>
            <a:ext cx="125280" cy="17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93040" y="3832200"/>
            <a:ext cx="206280" cy="130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137280" y="4403880"/>
            <a:ext cx="77760" cy="7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0" y="3700440"/>
            <a:ext cx="298440" cy="2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nctionnelle ou mesure de distance entre deux surfaces numériques S</a:t>
            </a:r>
            <a:r>
              <a:rPr b="0" lang="fr-FR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et S</a:t>
            </a:r>
            <a:r>
              <a:rPr b="0" lang="fr-F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stance euclidienne stochas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2b2b2"/>
                </a:solidFill>
                <a:latin typeface="Arial"/>
              </a:rPr>
              <a:t>Implémentation de la méthode de Pelizzari (</a:t>
            </a:r>
            <a:r>
              <a:rPr b="0" i="1" lang="fr-FR" sz="2000" spc="-1" strike="noStrike">
                <a:solidFill>
                  <a:srgbClr val="b2b2b2"/>
                </a:solidFill>
                <a:latin typeface="Arial"/>
              </a:rPr>
              <a:t>head hat</a:t>
            </a:r>
            <a:r>
              <a:rPr b="0" lang="fr-FR" sz="20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2b2b2"/>
                </a:solidFill>
                <a:latin typeface="Arial"/>
              </a:rPr>
              <a:t>Avec une approche stochastique et utilisation d’une carte distance pour accélérer le calc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t lissage des distances pour éliminer les points aberr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635120" y="4545000"/>
                <a:ext cx="58784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45" name="dist_lpe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12680" y="458640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246" name="dist_lpe.filtered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513560" y="4586400"/>
            <a:ext cx="152244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Sommair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Objectifs et approche utilis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1. Modèles de dé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Optimisation géné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es et princi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lques défa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e en œuv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3. Algorithme robu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4. Résul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Conclusion et persp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292040"/>
            <a:ext cx="800100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es et princ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2246400"/>
            <a:ext cx="1533240" cy="2055240"/>
            <a:chOff x="990720" y="2246400"/>
            <a:chExt cx="1533240" cy="2055240"/>
          </a:xfrm>
        </p:grpSpPr>
        <p:sp>
          <p:nvSpPr>
            <p:cNvPr id="254" name=""/>
            <p:cNvSpPr/>
            <p:nvPr/>
          </p:nvSpPr>
          <p:spPr>
            <a:xfrm>
              <a:off x="990720" y="2256480"/>
              <a:ext cx="1533240" cy="2045160"/>
            </a:xfrm>
            <a:prstGeom prst="rect">
              <a:avLst/>
            </a:prstGeom>
            <a:noFill/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6480" y="22464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blè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12400" y="3264120"/>
              <a:ext cx="1306440" cy="41652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(.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12400" y="3738600"/>
              <a:ext cx="1306440" cy="41688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ur 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12400" y="2768040"/>
              <a:ext cx="1306440" cy="41652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ximi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585880" y="1800360"/>
            <a:ext cx="3500640" cy="2922480"/>
            <a:chOff x="2585880" y="1800360"/>
            <a:chExt cx="3500640" cy="2922480"/>
          </a:xfrm>
        </p:grpSpPr>
        <p:grpSp>
          <p:nvGrpSpPr>
            <p:cNvPr id="260" name=""/>
            <p:cNvGrpSpPr/>
            <p:nvPr/>
          </p:nvGrpSpPr>
          <p:grpSpPr>
            <a:xfrm>
              <a:off x="3519360" y="2513880"/>
              <a:ext cx="2532240" cy="1522440"/>
              <a:chOff x="3519360" y="2513880"/>
              <a:chExt cx="2532240" cy="1522440"/>
            </a:xfrm>
          </p:grpSpPr>
          <p:sp>
            <p:nvSpPr>
              <p:cNvPr id="261" name=""/>
              <p:cNvSpPr/>
              <p:nvPr/>
            </p:nvSpPr>
            <p:spPr>
              <a:xfrm>
                <a:off x="3519360" y="2513880"/>
                <a:ext cx="2532240" cy="152244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Algorithme Génétique :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Boîte noi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16000" y="3453120"/>
                <a:ext cx="1937160" cy="472680"/>
              </a:xfrm>
              <a:prstGeom prst="roundRect">
                <a:avLst>
                  <a:gd name="adj" fmla="val 16667"/>
                </a:avLst>
              </a:prstGeom>
              <a:solidFill>
                <a:srgbClr val="32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Paramètres de l’algorithm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484440" y="4341960"/>
              <a:ext cx="2602080" cy="380880"/>
            </a:xfrm>
            <a:prstGeom prst="rect">
              <a:avLst/>
            </a:prstGeom>
            <a:solidFill>
              <a:srgbClr val="32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omaine de recherche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84440" y="1800360"/>
              <a:ext cx="2602080" cy="380880"/>
            </a:xfrm>
            <a:prstGeom prst="rect">
              <a:avLst/>
            </a:prstGeom>
            <a:solidFill>
              <a:srgbClr val="325a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onction à optimiser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(.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85880" y="2895480"/>
              <a:ext cx="933480" cy="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585880" y="1946160"/>
              <a:ext cx="898560" cy="29232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85880" y="4284720"/>
              <a:ext cx="898560" cy="21888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76840" y="2181240"/>
              <a:ext cx="0" cy="3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76840" y="392580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070680" y="2795040"/>
            <a:ext cx="1960200" cy="1191240"/>
            <a:chOff x="6070680" y="2795040"/>
            <a:chExt cx="1960200" cy="1191240"/>
          </a:xfrm>
        </p:grpSpPr>
        <p:sp>
          <p:nvSpPr>
            <p:cNvPr id="271" name=""/>
            <p:cNvSpPr/>
            <p:nvPr/>
          </p:nvSpPr>
          <p:spPr>
            <a:xfrm>
              <a:off x="6070680" y="3375360"/>
              <a:ext cx="590040" cy="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46320" y="2795040"/>
              <a:ext cx="1384560" cy="1191240"/>
            </a:xfrm>
            <a:prstGeom prst="rect">
              <a:avLst/>
            </a:prstGeom>
            <a:solidFill>
              <a:srgbClr val="325a78"/>
            </a:solidFill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sem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olu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09480" y="4859280"/>
            <a:ext cx="8001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 : mécanismes de la sélection natur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-organisation sous contrai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rage du has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de solutions : parallélisme implic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d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09480" y="4336920"/>
            <a:ext cx="7128000" cy="852480"/>
            <a:chOff x="609480" y="4336920"/>
            <a:chExt cx="7128000" cy="852480"/>
          </a:xfrm>
        </p:grpSpPr>
        <p:sp>
          <p:nvSpPr>
            <p:cNvPr id="278" name=""/>
            <p:cNvSpPr/>
            <p:nvPr/>
          </p:nvSpPr>
          <p:spPr>
            <a:xfrm>
              <a:off x="609480" y="4535640"/>
              <a:ext cx="91440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23880" y="4535640"/>
              <a:ext cx="91440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38280" y="4535640"/>
              <a:ext cx="914400" cy="459720"/>
            </a:xfrm>
            <a:prstGeom prst="rect">
              <a:avLst/>
            </a:prstGeom>
            <a:solidFill>
              <a:srgbClr val="00b7a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94280" y="4535640"/>
              <a:ext cx="91440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08680" y="4535640"/>
              <a:ext cx="91440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3080" y="4535640"/>
              <a:ext cx="914400" cy="45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52680" y="5003640"/>
              <a:ext cx="573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1160" y="4527720"/>
              <a:ext cx="573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2680" y="452772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6200" y="50036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09520" y="4336920"/>
              <a:ext cx="497160" cy="8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037040" y="4336920"/>
              <a:ext cx="496800" cy="8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609480" y="5316840"/>
            <a:ext cx="6607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 chromosome représente un point de l’espace de recherche (L paramèt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43000" y="2751840"/>
            <a:ext cx="6147360" cy="1775880"/>
            <a:chOff x="1143000" y="2751840"/>
            <a:chExt cx="6147360" cy="1775880"/>
          </a:xfrm>
        </p:grpSpPr>
        <p:sp>
          <p:nvSpPr>
            <p:cNvPr id="292" name=""/>
            <p:cNvSpPr/>
            <p:nvPr/>
          </p:nvSpPr>
          <p:spPr>
            <a:xfrm>
              <a:off x="1143000" y="2800440"/>
              <a:ext cx="380880" cy="380880"/>
            </a:xfrm>
            <a:prstGeom prst="rect">
              <a:avLst/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23880" y="2800440"/>
              <a:ext cx="381240" cy="380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5120" y="2800440"/>
              <a:ext cx="380880" cy="380880"/>
            </a:xfrm>
            <a:prstGeom prst="rect">
              <a:avLst/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800440"/>
              <a:ext cx="380880" cy="380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6880" y="2800440"/>
              <a:ext cx="381240" cy="380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48120" y="2800440"/>
              <a:ext cx="380880" cy="380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29000" y="2800440"/>
              <a:ext cx="380880" cy="380880"/>
            </a:xfrm>
            <a:prstGeom prst="rect">
              <a:avLst/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2800440"/>
              <a:ext cx="381240" cy="380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91120" y="2800440"/>
              <a:ext cx="380880" cy="380880"/>
            </a:xfrm>
            <a:prstGeom prst="rect">
              <a:avLst/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6240" y="3181320"/>
              <a:ext cx="0" cy="51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72000" y="3181320"/>
              <a:ext cx="0" cy="51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55600" y="3570120"/>
              <a:ext cx="34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46240" y="3700440"/>
              <a:ext cx="1292040" cy="8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3352320" y="3700440"/>
              <a:ext cx="1219320" cy="8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960" y="3124440"/>
              <a:ext cx="136656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n gène 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bi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33200" y="2751840"/>
              <a:ext cx="26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527"/>
                  </a:solidFill>
                  <a:latin typeface="Times New Roman"/>
                </a:rPr>
                <a:t>Encodage binai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155600" y="2747160"/>
            <a:ext cx="5916240" cy="1775160"/>
            <a:chOff x="1155600" y="2747160"/>
            <a:chExt cx="5916240" cy="1775160"/>
          </a:xfrm>
        </p:grpSpPr>
        <p:sp>
          <p:nvSpPr>
            <p:cNvPr id="309" name=""/>
            <p:cNvSpPr/>
            <p:nvPr/>
          </p:nvSpPr>
          <p:spPr>
            <a:xfrm>
              <a:off x="1155600" y="3175560"/>
              <a:ext cx="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81360" y="3175560"/>
              <a:ext cx="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4960" y="3565080"/>
              <a:ext cx="34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55600" y="3695400"/>
              <a:ext cx="1292040" cy="82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361680" y="3695400"/>
              <a:ext cx="1219320" cy="82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1920" y="3119040"/>
              <a:ext cx="221688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n gène 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ne valeur réel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70440" y="2747160"/>
              <a:ext cx="22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527"/>
                  </a:solidFill>
                  <a:latin typeface="Times New Roman"/>
                </a:rPr>
                <a:t>Encodage rée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ycle géné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2514600"/>
            <a:ext cx="2332080" cy="911160"/>
          </a:xfrm>
          <a:prstGeom prst="flowChartAlternateProcess">
            <a:avLst/>
          </a:prstGeom>
          <a:solidFill>
            <a:srgbClr val="85858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298680" y="2514600"/>
            <a:ext cx="3940200" cy="911160"/>
            <a:chOff x="3298680" y="2514600"/>
            <a:chExt cx="3940200" cy="911160"/>
          </a:xfrm>
        </p:grpSpPr>
        <p:sp>
          <p:nvSpPr>
            <p:cNvPr id="321" name=""/>
            <p:cNvSpPr/>
            <p:nvPr/>
          </p:nvSpPr>
          <p:spPr>
            <a:xfrm>
              <a:off x="3298680" y="2546280"/>
              <a:ext cx="1506600" cy="851040"/>
            </a:xfrm>
            <a:prstGeom prst="rightArrow">
              <a:avLst>
                <a:gd name="adj1" fmla="val 50000"/>
                <a:gd name="adj2" fmla="val 44258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él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06800" y="2514600"/>
              <a:ext cx="2332080" cy="91116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uvelle popul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06800" y="3581280"/>
            <a:ext cx="3544920" cy="2359080"/>
            <a:chOff x="4906800" y="3581280"/>
            <a:chExt cx="3544920" cy="2359080"/>
          </a:xfrm>
        </p:grpSpPr>
        <p:sp>
          <p:nvSpPr>
            <p:cNvPr id="324" name=""/>
            <p:cNvSpPr/>
            <p:nvPr/>
          </p:nvSpPr>
          <p:spPr>
            <a:xfrm>
              <a:off x="5715000" y="3581280"/>
              <a:ext cx="685800" cy="1295640"/>
            </a:xfrm>
            <a:prstGeom prst="downArrow">
              <a:avLst>
                <a:gd name="adj1" fmla="val 50000"/>
                <a:gd name="adj2" fmla="val 47231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6800" y="5029200"/>
              <a:ext cx="2332080" cy="91116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Population recombin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72800" y="3601080"/>
              <a:ext cx="197892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pari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combinais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38080" y="5032440"/>
            <a:ext cx="3936960" cy="911160"/>
            <a:chOff x="838080" y="5032440"/>
            <a:chExt cx="3936960" cy="911160"/>
          </a:xfrm>
        </p:grpSpPr>
        <p:sp>
          <p:nvSpPr>
            <p:cNvPr id="328" name=""/>
            <p:cNvSpPr/>
            <p:nvPr/>
          </p:nvSpPr>
          <p:spPr>
            <a:xfrm>
              <a:off x="3267000" y="5121720"/>
              <a:ext cx="1508040" cy="797040"/>
            </a:xfrm>
            <a:prstGeom prst="leftArrow">
              <a:avLst>
                <a:gd name="adj1" fmla="val 50000"/>
                <a:gd name="adj2" fmla="val 47301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u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080" y="5032440"/>
              <a:ext cx="2332080" cy="91116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pul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uté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V="1">
            <a:off x="1600200" y="3580560"/>
            <a:ext cx="685800" cy="1295640"/>
          </a:xfrm>
          <a:prstGeom prst="downArrow">
            <a:avLst>
              <a:gd name="adj1" fmla="val 50000"/>
              <a:gd name="adj2" fmla="val 4723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363680" y="2302200"/>
            <a:ext cx="5853240" cy="2997000"/>
            <a:chOff x="1363680" y="2302200"/>
            <a:chExt cx="5853240" cy="2997000"/>
          </a:xfrm>
        </p:grpSpPr>
        <p:grpSp>
          <p:nvGrpSpPr>
            <p:cNvPr id="332" name=""/>
            <p:cNvGrpSpPr/>
            <p:nvPr/>
          </p:nvGrpSpPr>
          <p:grpSpPr>
            <a:xfrm>
              <a:off x="5594400" y="3738600"/>
              <a:ext cx="1622520" cy="115920"/>
              <a:chOff x="5594400" y="3738600"/>
              <a:chExt cx="1622520" cy="115920"/>
            </a:xfrm>
          </p:grpSpPr>
          <p:sp>
            <p:nvSpPr>
              <p:cNvPr id="333" name=""/>
              <p:cNvSpPr/>
              <p:nvPr/>
            </p:nvSpPr>
            <p:spPr>
              <a:xfrm>
                <a:off x="5594400" y="373860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10320" y="373860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26240" y="373860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42160" y="373860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58080" y="373860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4000" y="3738600"/>
                <a:ext cx="11556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89560" y="373860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05480" y="373860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521400" y="373860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37320" y="373860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53240" y="373860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69160" y="373860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985080" y="373860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01000" y="373860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363680" y="2302200"/>
              <a:ext cx="5853240" cy="2997000"/>
              <a:chOff x="1363680" y="2302200"/>
              <a:chExt cx="5853240" cy="29970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363680" y="3325680"/>
                <a:ext cx="1622520" cy="115920"/>
                <a:chOff x="1363680" y="3325680"/>
                <a:chExt cx="1622520" cy="1159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36368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7960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59552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1144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2736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43280" y="3325680"/>
                  <a:ext cx="11556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5884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17476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29068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40660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52252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3844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75436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87028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1363680" y="3738600"/>
                <a:ext cx="1622520" cy="115920"/>
                <a:chOff x="1363680" y="3738600"/>
                <a:chExt cx="1622520" cy="115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363680" y="373860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479600" y="373860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595520" y="373860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711440" y="373860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27360" y="373860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943280" y="3738600"/>
                  <a:ext cx="11556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058840" y="373860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174760" y="373860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290680" y="373860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06600" y="373860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522520" y="373860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638440" y="373860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754360" y="373860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870280" y="373860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363680" y="4178160"/>
                <a:ext cx="1622520" cy="115920"/>
                <a:chOff x="1363680" y="4178160"/>
                <a:chExt cx="1622520" cy="115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36368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47960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59552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71144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2736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943280" y="4178160"/>
                  <a:ext cx="11556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5884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7476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29068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52252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63844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75436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7028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3484440" y="2302200"/>
                <a:ext cx="1735200" cy="2997000"/>
              </a:xfrm>
              <a:prstGeom prst="rect">
                <a:avLst/>
              </a:prstGeom>
              <a:noFill/>
              <a:ln w="28440">
                <a:solidFill>
                  <a:srgbClr val="fff5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527"/>
                    </a:solidFill>
                    <a:latin typeface="Times New Roman"/>
                  </a:rPr>
                  <a:t>Fonction d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527"/>
                    </a:solidFill>
                    <a:latin typeface="Times New Roman"/>
                  </a:rPr>
                  <a:t>Sélec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527"/>
                    </a:solidFill>
                    <a:latin typeface="Times New Roman"/>
                  </a:rPr>
                  <a:t>utilisant :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fff527"/>
                    </a:solidFill>
                    <a:latin typeface="Times New Roman"/>
                  </a:rPr>
                  <a:t>f(i) </a:t>
                </a:r>
                <a:r>
                  <a:rPr b="0" lang="fr-FR" sz="2400" spc="-1" strike="noStrike">
                    <a:solidFill>
                      <a:srgbClr val="fff527"/>
                    </a:solidFill>
                    <a:latin typeface="Times New Roman"/>
                  </a:rPr>
                  <a:t>et </a:t>
                </a:r>
                <a:r>
                  <a:rPr b="0" i="1" lang="fr-FR" sz="2400" spc="-1" strike="noStrike">
                    <a:solidFill>
                      <a:srgbClr val="fff527"/>
                    </a:solidFill>
                    <a:latin typeface="Times New Roman"/>
                  </a:rPr>
                  <a:t>f</a:t>
                </a:r>
                <a:r>
                  <a:rPr b="0" i="1" lang="fr-FR" sz="2400" spc="-1" strike="noStrike" baseline="-25000">
                    <a:solidFill>
                      <a:srgbClr val="fff527"/>
                    </a:solidFill>
                    <a:latin typeface="Times New Roman"/>
                  </a:rPr>
                  <a:t>mo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5594400" y="4178160"/>
                <a:ext cx="1622520" cy="115920"/>
                <a:chOff x="5594400" y="4178160"/>
                <a:chExt cx="1622520" cy="1159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59440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71032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82624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94216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05808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174000" y="4178160"/>
                  <a:ext cx="11556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28956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0548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2140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3732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5324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69160" y="417816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98508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101000" y="417816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5594400" y="3325680"/>
                <a:ext cx="1622520" cy="115920"/>
                <a:chOff x="5594400" y="3325680"/>
                <a:chExt cx="1622520" cy="1159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59440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71032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82624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4216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05808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174000" y="3325680"/>
                  <a:ext cx="11556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28956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40548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52140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63732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75324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86916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85080" y="3325680"/>
                  <a:ext cx="115920" cy="115920"/>
                </a:xfrm>
                <a:prstGeom prst="rect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01000" y="3325680"/>
                  <a:ext cx="115920" cy="115920"/>
                </a:xfrm>
                <a:prstGeom prst="rect">
                  <a:avLst/>
                </a:prstGeom>
                <a:solidFill>
                  <a:srgbClr val="325a7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4" name=""/>
              <p:cNvSpPr/>
              <p:nvPr/>
            </p:nvSpPr>
            <p:spPr>
              <a:xfrm>
                <a:off x="1943280" y="4409280"/>
                <a:ext cx="4888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ts val="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ts val="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72200" y="4409280"/>
                <a:ext cx="488880" cy="60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ts val="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ts val="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ts val="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3076560" y="2981880"/>
            <a:ext cx="4140360" cy="648720"/>
            <a:chOff x="3076560" y="2981880"/>
            <a:chExt cx="4140360" cy="648720"/>
          </a:xfrm>
        </p:grpSpPr>
        <p:sp>
          <p:nvSpPr>
            <p:cNvPr id="427" name=""/>
            <p:cNvSpPr/>
            <p:nvPr/>
          </p:nvSpPr>
          <p:spPr>
            <a:xfrm>
              <a:off x="3076560" y="3382920"/>
              <a:ext cx="2352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5594400" y="3137040"/>
              <a:ext cx="1622520" cy="115920"/>
              <a:chOff x="5594400" y="3137040"/>
              <a:chExt cx="1622520" cy="115920"/>
            </a:xfrm>
          </p:grpSpPr>
          <p:sp>
            <p:nvSpPr>
              <p:cNvPr id="429" name=""/>
              <p:cNvSpPr/>
              <p:nvPr/>
            </p:nvSpPr>
            <p:spPr>
              <a:xfrm>
                <a:off x="5594400" y="313704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10320" y="313704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26240" y="313704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42160" y="313704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058080" y="313704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4000" y="3137040"/>
                <a:ext cx="11556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89560" y="313704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05480" y="313704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521400" y="313704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37320" y="313704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53240" y="313704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869160" y="313704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985080" y="313704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01000" y="313704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594400" y="3506760"/>
              <a:ext cx="1622520" cy="115920"/>
              <a:chOff x="5594400" y="3506760"/>
              <a:chExt cx="1622520" cy="115920"/>
            </a:xfrm>
          </p:grpSpPr>
          <p:sp>
            <p:nvSpPr>
              <p:cNvPr id="444" name=""/>
              <p:cNvSpPr/>
              <p:nvPr/>
            </p:nvSpPr>
            <p:spPr>
              <a:xfrm>
                <a:off x="5594400" y="350676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10320" y="350676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26240" y="350676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942160" y="350676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58080" y="350676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74000" y="3506760"/>
                <a:ext cx="11556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89560" y="350676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05480" y="350676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521400" y="350676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637320" y="350676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53240" y="350676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869160" y="350676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85080" y="3506760"/>
                <a:ext cx="115920" cy="115920"/>
              </a:xfrm>
              <a:prstGeom prst="rect">
                <a:avLst/>
              </a:prstGeom>
              <a:solidFill>
                <a:srgbClr val="b2b2b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101000" y="3506760"/>
                <a:ext cx="115920" cy="1159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951720" y="2981880"/>
              <a:ext cx="6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86400" y="3141720"/>
              <a:ext cx="76320" cy="4888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7920 h 488880"/>
                <a:gd name="textAreaBottom" fmla="*/ 48096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63"/>
                    <a:pt x="10800" y="1126"/>
                  </a:cubicBezTo>
                  <a:lnTo>
                    <a:pt x="10800" y="9594"/>
                  </a:lnTo>
                  <a:cubicBezTo>
                    <a:pt x="10800" y="10157"/>
                    <a:pt x="5400" y="10720"/>
                    <a:pt x="0" y="10720"/>
                  </a:cubicBezTo>
                  <a:cubicBezTo>
                    <a:pt x="5400" y="10720"/>
                    <a:pt x="10800" y="11283"/>
                    <a:pt x="10800" y="11846"/>
                  </a:cubicBezTo>
                  <a:lnTo>
                    <a:pt x="10800" y="20474"/>
                  </a:lnTo>
                  <a:cubicBezTo>
                    <a:pt x="10800" y="21037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076560" y="3386520"/>
            <a:ext cx="4336920" cy="499320"/>
            <a:chOff x="3076560" y="3386520"/>
            <a:chExt cx="4336920" cy="499320"/>
          </a:xfrm>
        </p:grpSpPr>
        <p:grpSp>
          <p:nvGrpSpPr>
            <p:cNvPr id="461" name=""/>
            <p:cNvGrpSpPr/>
            <p:nvPr/>
          </p:nvGrpSpPr>
          <p:grpSpPr>
            <a:xfrm>
              <a:off x="3951720" y="3386520"/>
              <a:ext cx="3461760" cy="499320"/>
              <a:chOff x="3951720" y="3386520"/>
              <a:chExt cx="3461760" cy="499320"/>
            </a:xfrm>
          </p:grpSpPr>
          <p:sp>
            <p:nvSpPr>
              <p:cNvPr id="462" name=""/>
              <p:cNvSpPr/>
              <p:nvPr/>
            </p:nvSpPr>
            <p:spPr>
              <a:xfrm>
                <a:off x="3951720" y="3386520"/>
                <a:ext cx="65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63" name=""/>
              <p:cNvGraphicFramePr/>
              <p:nvPr/>
            </p:nvGraphicFramePr>
            <p:xfrm>
              <a:off x="5594400" y="3723840"/>
              <a:ext cx="1819080" cy="162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594400" y="3723840"/>
                        <a:ext cx="1819080" cy="16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65" name=""/>
            <p:cNvSpPr/>
            <p:nvPr/>
          </p:nvSpPr>
          <p:spPr>
            <a:xfrm>
              <a:off x="3076560" y="3797280"/>
              <a:ext cx="2352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élection / Re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5356800"/>
            <a:ext cx="800100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 population de chromosomes est triée selon la fonction d’évaluation et à chaque itération, l’algorithme élimine les mauvais éléments et multiplie les meille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076560" y="3834360"/>
            <a:ext cx="2352600" cy="459720"/>
            <a:chOff x="3076560" y="3834360"/>
            <a:chExt cx="2352600" cy="459720"/>
          </a:xfrm>
        </p:grpSpPr>
        <p:sp>
          <p:nvSpPr>
            <p:cNvPr id="471" name=""/>
            <p:cNvSpPr/>
            <p:nvPr/>
          </p:nvSpPr>
          <p:spPr>
            <a:xfrm>
              <a:off x="3076560" y="4229280"/>
              <a:ext cx="2352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51720" y="3834360"/>
              <a:ext cx="6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405480" y="1371600"/>
            <a:ext cx="1986120" cy="1065240"/>
            <a:chOff x="6405480" y="1371600"/>
            <a:chExt cx="1986120" cy="1065240"/>
          </a:xfrm>
        </p:grpSpPr>
        <p:sp>
          <p:nvSpPr>
            <p:cNvPr id="474" name=""/>
            <p:cNvSpPr/>
            <p:nvPr/>
          </p:nvSpPr>
          <p:spPr>
            <a:xfrm>
              <a:off x="6405480" y="1371600"/>
              <a:ext cx="723960" cy="282600"/>
            </a:xfrm>
            <a:prstGeom prst="flowChartAlternateProcess">
              <a:avLst/>
            </a:prstGeom>
            <a:solidFill>
              <a:srgbClr val="85858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9040" y="1380960"/>
              <a:ext cx="466920" cy="265320"/>
            </a:xfrm>
            <a:prstGeom prst="rightArrow">
              <a:avLst>
                <a:gd name="adj1" fmla="val 50000"/>
                <a:gd name="adj2" fmla="val 43996"/>
              </a:avLst>
            </a:prstGeom>
            <a:solidFill>
              <a:srgbClr val="fe9b03"/>
            </a:solidFill>
            <a:ln w="28440">
              <a:solidFill>
                <a:srgbClr val="fe9b0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67640" y="1371600"/>
              <a:ext cx="723960" cy="28260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18560" y="1703520"/>
              <a:ext cx="212760" cy="401400"/>
            </a:xfrm>
            <a:prstGeom prst="downArrow">
              <a:avLst>
                <a:gd name="adj1" fmla="val 50000"/>
                <a:gd name="adj2" fmla="val 47166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67640" y="2152800"/>
              <a:ext cx="723960" cy="28260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59680" y="2192400"/>
              <a:ext cx="466560" cy="226800"/>
            </a:xfrm>
            <a:prstGeom prst="leftArrow">
              <a:avLst>
                <a:gd name="adj1" fmla="val 50000"/>
                <a:gd name="adj2" fmla="val 51429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05480" y="2154240"/>
              <a:ext cx="723960" cy="28260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642000" y="1702800"/>
              <a:ext cx="212760" cy="401400"/>
            </a:xfrm>
            <a:prstGeom prst="downArrow">
              <a:avLst>
                <a:gd name="adj1" fmla="val 50000"/>
                <a:gd name="adj2" fmla="val 47166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4789440" y="4282920"/>
            <a:ext cx="1795320" cy="365040"/>
            <a:chOff x="4789440" y="4282920"/>
            <a:chExt cx="1795320" cy="365040"/>
          </a:xfrm>
        </p:grpSpPr>
        <p:sp>
          <p:nvSpPr>
            <p:cNvPr id="483" name=""/>
            <p:cNvSpPr/>
            <p:nvPr/>
          </p:nvSpPr>
          <p:spPr>
            <a:xfrm>
              <a:off x="4789440" y="42829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48000" y="42829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06920" y="42829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5480" y="42829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5840" y="42829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794120" y="4191120"/>
            <a:ext cx="1795320" cy="365040"/>
            <a:chOff x="4794120" y="4191120"/>
            <a:chExt cx="1795320" cy="365040"/>
          </a:xfrm>
        </p:grpSpPr>
        <p:sp>
          <p:nvSpPr>
            <p:cNvPr id="489" name=""/>
            <p:cNvSpPr/>
            <p:nvPr/>
          </p:nvSpPr>
          <p:spPr>
            <a:xfrm>
              <a:off x="4794120" y="41911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5268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11600" y="41911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70160" y="41911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3052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0948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bina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5482800"/>
            <a:ext cx="8001000" cy="7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À chaque itération, des paires de chromosomes sont élues pour échanger une partie de leur contenu (probabilité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7000" y="2524680"/>
            <a:ext cx="2419560" cy="891000"/>
          </a:xfrm>
          <a:prstGeom prst="flowChartAlternateProcess">
            <a:avLst/>
          </a:prstGeom>
          <a:solidFill>
            <a:srgbClr val="85858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chromos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14400" y="3048120"/>
            <a:ext cx="471600" cy="1819080"/>
          </a:xfrm>
          <a:custGeom>
            <a:avLst/>
            <a:gdLst>
              <a:gd name="textAreaLeft" fmla="*/ 63000 w 471600"/>
              <a:gd name="textAreaRight" fmla="*/ 408600 w 471600"/>
              <a:gd name="textAreaTop" fmla="*/ 343080 h 1819080"/>
              <a:gd name="textAreaBottom" fmla="*/ 129420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48" stAng="-5400000" swAng="-5400000"/>
                <a:lnTo>
                  <a:pt x="0" y="11292"/>
                </a:lnTo>
                <a:arcTo wR="21600" hR="8148" stAng="10800000" swAng="-2811305"/>
                <a:lnTo>
                  <a:pt x="14400" y="21134"/>
                </a:lnTo>
                <a:lnTo>
                  <a:pt x="21600" y="17868"/>
                </a:lnTo>
                <a:lnTo>
                  <a:pt x="14400" y="13670"/>
                </a:lnTo>
                <a:lnTo>
                  <a:pt x="14400" y="15830"/>
                </a:lnTo>
                <a:arcTo wR="21600" hR="8148" stAng="7988695" swAng="2556789"/>
                <a:lnTo>
                  <a:pt x="406" y="9720"/>
                </a:lnTo>
                <a:arcTo wR="21600" hR="8148" stAng="-10545484" swAng="5145484"/>
                <a:close/>
              </a:path>
              <a:path fill="darkenLess" w="21600" h="21600">
                <a:moveTo>
                  <a:pt x="21600" y="0"/>
                </a:moveTo>
                <a:arcTo wR="21600" hR="8148" stAng="-5400000" swAng="-5400000"/>
                <a:lnTo>
                  <a:pt x="0" y="8148"/>
                </a:lnTo>
                <a:arcTo wR="21600" hR="8148" stAng="10800000" swAng="-254516"/>
                <a:lnTo>
                  <a:pt x="406" y="9720"/>
                </a:lnTo>
                <a:arcTo wR="21600" hR="8148" stAng="-10545484" swAng="5145484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38320" y="357084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557360" y="4191120"/>
            <a:ext cx="3233880" cy="365040"/>
            <a:chOff x="1557360" y="4191120"/>
            <a:chExt cx="3233880" cy="365040"/>
          </a:xfrm>
        </p:grpSpPr>
        <p:sp>
          <p:nvSpPr>
            <p:cNvPr id="502" name=""/>
            <p:cNvSpPr/>
            <p:nvPr/>
          </p:nvSpPr>
          <p:spPr>
            <a:xfrm>
              <a:off x="155736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16280" y="4191120"/>
              <a:ext cx="3603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76640" y="4191120"/>
              <a:ext cx="3585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3520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94120" y="4191120"/>
              <a:ext cx="3585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52680" y="41911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13040" y="4191120"/>
              <a:ext cx="35892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196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30880" y="41911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91240" y="4648320"/>
            <a:ext cx="1795320" cy="365040"/>
            <a:chOff x="4791240" y="4648320"/>
            <a:chExt cx="1795320" cy="365040"/>
          </a:xfrm>
        </p:grpSpPr>
        <p:sp>
          <p:nvSpPr>
            <p:cNvPr id="512" name=""/>
            <p:cNvSpPr/>
            <p:nvPr/>
          </p:nvSpPr>
          <p:spPr>
            <a:xfrm>
              <a:off x="479124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980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0872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7280" y="46483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2764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557360" y="4648320"/>
            <a:ext cx="3233880" cy="365040"/>
            <a:chOff x="1557360" y="4648320"/>
            <a:chExt cx="3233880" cy="365040"/>
          </a:xfrm>
        </p:grpSpPr>
        <p:sp>
          <p:nvSpPr>
            <p:cNvPr id="518" name=""/>
            <p:cNvSpPr/>
            <p:nvPr/>
          </p:nvSpPr>
          <p:spPr>
            <a:xfrm>
              <a:off x="155736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76640" y="4648320"/>
              <a:ext cx="3585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9412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52680" y="46483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196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30880" y="46483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17720" y="4648320"/>
              <a:ext cx="35892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33760" y="46483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1304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789440" y="4191120"/>
            <a:ext cx="1795680" cy="365040"/>
            <a:chOff x="4789440" y="4191120"/>
            <a:chExt cx="1795680" cy="365040"/>
          </a:xfrm>
        </p:grpSpPr>
        <p:sp>
          <p:nvSpPr>
            <p:cNvPr id="528" name=""/>
            <p:cNvSpPr/>
            <p:nvPr/>
          </p:nvSpPr>
          <p:spPr>
            <a:xfrm>
              <a:off x="4789440" y="41911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4980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06920" y="41911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6728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2620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4789440" y="3733920"/>
            <a:ext cx="1800" cy="1600200"/>
          </a:xfrm>
          <a:prstGeom prst="line">
            <a:avLst/>
          </a:prstGeom>
          <a:ln w="28440">
            <a:solidFill>
              <a:srgbClr val="fff5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510160" y="4191120"/>
            <a:ext cx="1795680" cy="365040"/>
            <a:chOff x="5510160" y="4191120"/>
            <a:chExt cx="1795680" cy="365040"/>
          </a:xfrm>
        </p:grpSpPr>
        <p:sp>
          <p:nvSpPr>
            <p:cNvPr id="535" name=""/>
            <p:cNvSpPr/>
            <p:nvPr/>
          </p:nvSpPr>
          <p:spPr>
            <a:xfrm>
              <a:off x="5510160" y="41911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7052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27640" y="41911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8800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46920" y="41911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226200" y="4191120"/>
            <a:ext cx="1794960" cy="365040"/>
            <a:chOff x="6226200" y="4191120"/>
            <a:chExt cx="1794960" cy="365040"/>
          </a:xfrm>
        </p:grpSpPr>
        <p:sp>
          <p:nvSpPr>
            <p:cNvPr id="541" name=""/>
            <p:cNvSpPr/>
            <p:nvPr/>
          </p:nvSpPr>
          <p:spPr>
            <a:xfrm>
              <a:off x="6226200" y="41911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86200" y="41911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43320" y="41911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03680" y="41911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62600" y="41911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815160" y="4191120"/>
            <a:ext cx="1794960" cy="365040"/>
            <a:chOff x="6815160" y="4191120"/>
            <a:chExt cx="1794960" cy="365040"/>
          </a:xfrm>
        </p:grpSpPr>
        <p:sp>
          <p:nvSpPr>
            <p:cNvPr id="547" name=""/>
            <p:cNvSpPr/>
            <p:nvPr/>
          </p:nvSpPr>
          <p:spPr>
            <a:xfrm>
              <a:off x="6815160" y="41911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75160" y="41911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32280" y="41911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92640" y="41911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51560" y="41911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789440" y="4502160"/>
            <a:ext cx="1795320" cy="365040"/>
            <a:chOff x="4789440" y="4502160"/>
            <a:chExt cx="1795320" cy="365040"/>
          </a:xfrm>
        </p:grpSpPr>
        <p:sp>
          <p:nvSpPr>
            <p:cNvPr id="553" name=""/>
            <p:cNvSpPr/>
            <p:nvPr/>
          </p:nvSpPr>
          <p:spPr>
            <a:xfrm>
              <a:off x="4789440" y="450216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48000" y="450216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6920" y="450216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865480" y="450216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25840" y="450216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815160" y="4502160"/>
            <a:ext cx="1794960" cy="365040"/>
            <a:chOff x="6815160" y="4502160"/>
            <a:chExt cx="1794960" cy="365040"/>
          </a:xfrm>
        </p:grpSpPr>
        <p:sp>
          <p:nvSpPr>
            <p:cNvPr id="559" name=""/>
            <p:cNvSpPr/>
            <p:nvPr/>
          </p:nvSpPr>
          <p:spPr>
            <a:xfrm>
              <a:off x="6815160" y="450216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75160" y="450216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32280" y="450216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92640" y="450216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51560" y="450216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815160" y="4648320"/>
            <a:ext cx="1794960" cy="365040"/>
            <a:chOff x="6815160" y="4648320"/>
            <a:chExt cx="1794960" cy="365040"/>
          </a:xfrm>
        </p:grpSpPr>
        <p:sp>
          <p:nvSpPr>
            <p:cNvPr id="565" name=""/>
            <p:cNvSpPr/>
            <p:nvPr/>
          </p:nvSpPr>
          <p:spPr>
            <a:xfrm>
              <a:off x="6815160" y="46483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17516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32280" y="46483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9264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5156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97680" y="4648320"/>
            <a:ext cx="1794960" cy="365040"/>
            <a:chOff x="6097680" y="4648320"/>
            <a:chExt cx="1794960" cy="365040"/>
          </a:xfrm>
        </p:grpSpPr>
        <p:sp>
          <p:nvSpPr>
            <p:cNvPr id="571" name=""/>
            <p:cNvSpPr/>
            <p:nvPr/>
          </p:nvSpPr>
          <p:spPr>
            <a:xfrm>
              <a:off x="6097680" y="46483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5768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14800" y="46483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7516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3408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511960" y="4648320"/>
            <a:ext cx="1794960" cy="365040"/>
            <a:chOff x="5511960" y="4648320"/>
            <a:chExt cx="1794960" cy="365040"/>
          </a:xfrm>
        </p:grpSpPr>
        <p:sp>
          <p:nvSpPr>
            <p:cNvPr id="577" name=""/>
            <p:cNvSpPr/>
            <p:nvPr/>
          </p:nvSpPr>
          <p:spPr>
            <a:xfrm>
              <a:off x="5511960" y="46483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7196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29080" y="4648320"/>
              <a:ext cx="36000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8944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4836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794120" y="4648320"/>
            <a:ext cx="1795680" cy="365040"/>
            <a:chOff x="4794120" y="4648320"/>
            <a:chExt cx="1795680" cy="365040"/>
          </a:xfrm>
        </p:grpSpPr>
        <p:sp>
          <p:nvSpPr>
            <p:cNvPr id="583" name=""/>
            <p:cNvSpPr/>
            <p:nvPr/>
          </p:nvSpPr>
          <p:spPr>
            <a:xfrm>
              <a:off x="4794120" y="46483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5448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511600" y="46483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7196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3088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789440" y="4648320"/>
            <a:ext cx="1795320" cy="365040"/>
            <a:chOff x="4789440" y="4648320"/>
            <a:chExt cx="1795320" cy="365040"/>
          </a:xfrm>
        </p:grpSpPr>
        <p:sp>
          <p:nvSpPr>
            <p:cNvPr id="589" name=""/>
            <p:cNvSpPr/>
            <p:nvPr/>
          </p:nvSpPr>
          <p:spPr>
            <a:xfrm>
              <a:off x="478944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4800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0692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5480" y="46483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2584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789440" y="4648320"/>
            <a:ext cx="1795320" cy="365040"/>
            <a:chOff x="4789440" y="4648320"/>
            <a:chExt cx="1795320" cy="365040"/>
          </a:xfrm>
        </p:grpSpPr>
        <p:sp>
          <p:nvSpPr>
            <p:cNvPr id="595" name=""/>
            <p:cNvSpPr/>
            <p:nvPr/>
          </p:nvSpPr>
          <p:spPr>
            <a:xfrm>
              <a:off x="478944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4800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06920" y="4648320"/>
              <a:ext cx="35856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65480" y="4648320"/>
              <a:ext cx="360360" cy="3650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25840" y="4648320"/>
              <a:ext cx="358920" cy="36504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405480" y="1371600"/>
            <a:ext cx="1986120" cy="1065240"/>
            <a:chOff x="6405480" y="1371600"/>
            <a:chExt cx="1986120" cy="1065240"/>
          </a:xfrm>
        </p:grpSpPr>
        <p:sp>
          <p:nvSpPr>
            <p:cNvPr id="601" name=""/>
            <p:cNvSpPr/>
            <p:nvPr/>
          </p:nvSpPr>
          <p:spPr>
            <a:xfrm>
              <a:off x="6405480" y="1371600"/>
              <a:ext cx="723960" cy="282600"/>
            </a:xfrm>
            <a:prstGeom prst="flowChartAlternateProcess">
              <a:avLst/>
            </a:prstGeom>
            <a:solidFill>
              <a:srgbClr val="85858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69040" y="1380960"/>
              <a:ext cx="466920" cy="265320"/>
            </a:xfrm>
            <a:prstGeom prst="rightArrow">
              <a:avLst>
                <a:gd name="adj1" fmla="val 50000"/>
                <a:gd name="adj2" fmla="val 43996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67640" y="1371600"/>
              <a:ext cx="723960" cy="28260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18560" y="1703520"/>
              <a:ext cx="212760" cy="401400"/>
            </a:xfrm>
            <a:prstGeom prst="downArrow">
              <a:avLst>
                <a:gd name="adj1" fmla="val 50000"/>
                <a:gd name="adj2" fmla="val 47166"/>
              </a:avLst>
            </a:prstGeom>
            <a:solidFill>
              <a:srgbClr val="fe9b03"/>
            </a:solidFill>
            <a:ln w="28440">
              <a:solidFill>
                <a:srgbClr val="fe9b0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67640" y="2152800"/>
              <a:ext cx="723960" cy="28260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59680" y="2192400"/>
              <a:ext cx="466560" cy="226800"/>
            </a:xfrm>
            <a:prstGeom prst="leftArrow">
              <a:avLst>
                <a:gd name="adj1" fmla="val 50000"/>
                <a:gd name="adj2" fmla="val 51429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05480" y="2154240"/>
              <a:ext cx="723960" cy="28260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6642000" y="1702800"/>
              <a:ext cx="212760" cy="401400"/>
            </a:xfrm>
            <a:prstGeom prst="downArrow">
              <a:avLst>
                <a:gd name="adj1" fmla="val 50000"/>
                <a:gd name="adj2" fmla="val 47166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0948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585800" y="4419720"/>
            <a:ext cx="5027760" cy="363960"/>
            <a:chOff x="1585800" y="4419720"/>
            <a:chExt cx="5027760" cy="363960"/>
          </a:xfrm>
        </p:grpSpPr>
        <p:sp>
          <p:nvSpPr>
            <p:cNvPr id="611" name=""/>
            <p:cNvSpPr/>
            <p:nvPr/>
          </p:nvSpPr>
          <p:spPr>
            <a:xfrm>
              <a:off x="1585800" y="4419720"/>
              <a:ext cx="358920" cy="36396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44720" y="4419720"/>
              <a:ext cx="358920" cy="36396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04000" y="4419720"/>
              <a:ext cx="358920" cy="3639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63280" y="4419720"/>
              <a:ext cx="358920" cy="36396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22560" y="4419720"/>
              <a:ext cx="358920" cy="3639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1840" y="4419720"/>
              <a:ext cx="357840" cy="3639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40040" y="4419720"/>
              <a:ext cx="358920" cy="3639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99320" y="4419720"/>
              <a:ext cx="358920" cy="36396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58600" y="4419720"/>
              <a:ext cx="358920" cy="3639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17880" y="4419720"/>
              <a:ext cx="358920" cy="36396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77160" y="4419720"/>
              <a:ext cx="358920" cy="36396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36440" y="4419720"/>
              <a:ext cx="358920" cy="36396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5720" y="4419720"/>
              <a:ext cx="358920" cy="3639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54640" y="4419720"/>
              <a:ext cx="358920" cy="363960"/>
            </a:xfrm>
            <a:prstGeom prst="rect">
              <a:avLst/>
            </a:prstGeom>
            <a:solidFill>
              <a:srgbClr val="325a7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5482800"/>
            <a:ext cx="8001000" cy="71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À chaque itération, des chromosomes sont élus pour subir une mutation aléatoire (probabilité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028840" y="3349800"/>
            <a:ext cx="507960" cy="99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18240" y="4419720"/>
            <a:ext cx="360360" cy="36504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57000" y="2524680"/>
            <a:ext cx="2419560" cy="891000"/>
          </a:xfrm>
          <a:prstGeom prst="flowChartAlternateProcess">
            <a:avLst/>
          </a:prstGeom>
          <a:solidFill>
            <a:srgbClr val="85858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chromos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3048120"/>
            <a:ext cx="471600" cy="1819080"/>
          </a:xfrm>
          <a:custGeom>
            <a:avLst/>
            <a:gdLst>
              <a:gd name="textAreaLeft" fmla="*/ 63000 w 471600"/>
              <a:gd name="textAreaRight" fmla="*/ 408600 w 471600"/>
              <a:gd name="textAreaTop" fmla="*/ 343080 h 1819080"/>
              <a:gd name="textAreaBottom" fmla="*/ 129420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48" stAng="-5400000" swAng="-5400000"/>
                <a:lnTo>
                  <a:pt x="0" y="11292"/>
                </a:lnTo>
                <a:arcTo wR="21600" hR="8148" stAng="10800000" swAng="-2811305"/>
                <a:lnTo>
                  <a:pt x="14400" y="21134"/>
                </a:lnTo>
                <a:lnTo>
                  <a:pt x="21600" y="17868"/>
                </a:lnTo>
                <a:lnTo>
                  <a:pt x="14400" y="13670"/>
                </a:lnTo>
                <a:lnTo>
                  <a:pt x="14400" y="15830"/>
                </a:lnTo>
                <a:arcTo wR="21600" hR="8148" stAng="7988695" swAng="2556789"/>
                <a:lnTo>
                  <a:pt x="406" y="9720"/>
                </a:lnTo>
                <a:arcTo wR="21600" hR="8148" stAng="-10545484" swAng="5145484"/>
                <a:close/>
              </a:path>
              <a:path fill="darkenLess" w="21600" h="21600">
                <a:moveTo>
                  <a:pt x="21600" y="0"/>
                </a:moveTo>
                <a:arcTo wR="21600" hR="8148" stAng="-5400000" swAng="-5400000"/>
                <a:lnTo>
                  <a:pt x="0" y="8148"/>
                </a:lnTo>
                <a:arcTo wR="21600" hR="8148" stAng="10800000" swAng="-254516"/>
                <a:lnTo>
                  <a:pt x="406" y="9720"/>
                </a:lnTo>
                <a:arcTo wR="21600" hR="8148" stAng="-10545484" swAng="5145484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13840" y="35708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6405480" y="1371600"/>
            <a:ext cx="1986120" cy="1065240"/>
            <a:chOff x="6405480" y="1371600"/>
            <a:chExt cx="1986120" cy="1065240"/>
          </a:xfrm>
        </p:grpSpPr>
        <p:sp>
          <p:nvSpPr>
            <p:cNvPr id="634" name=""/>
            <p:cNvSpPr/>
            <p:nvPr/>
          </p:nvSpPr>
          <p:spPr>
            <a:xfrm>
              <a:off x="6405480" y="1371600"/>
              <a:ext cx="723960" cy="282600"/>
            </a:xfrm>
            <a:prstGeom prst="flowChartAlternateProcess">
              <a:avLst/>
            </a:prstGeom>
            <a:solidFill>
              <a:srgbClr val="85858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69040" y="1380960"/>
              <a:ext cx="466920" cy="265320"/>
            </a:xfrm>
            <a:prstGeom prst="rightArrow">
              <a:avLst>
                <a:gd name="adj1" fmla="val 50000"/>
                <a:gd name="adj2" fmla="val 43996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67640" y="1371600"/>
              <a:ext cx="723960" cy="28260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18560" y="1703520"/>
              <a:ext cx="212760" cy="401400"/>
            </a:xfrm>
            <a:prstGeom prst="downArrow">
              <a:avLst>
                <a:gd name="adj1" fmla="val 50000"/>
                <a:gd name="adj2" fmla="val 47166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67640" y="2152800"/>
              <a:ext cx="723960" cy="28260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9680" y="2192400"/>
              <a:ext cx="466560" cy="226800"/>
            </a:xfrm>
            <a:prstGeom prst="leftArrow">
              <a:avLst>
                <a:gd name="adj1" fmla="val 50000"/>
                <a:gd name="adj2" fmla="val 51429"/>
              </a:avLst>
            </a:prstGeom>
            <a:solidFill>
              <a:srgbClr val="fe9b03"/>
            </a:solidFill>
            <a:ln w="28440">
              <a:solidFill>
                <a:srgbClr val="fe9b03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05480" y="2154240"/>
              <a:ext cx="723960" cy="282600"/>
            </a:xfrm>
            <a:prstGeom prst="flowChartAlternateProcess">
              <a:avLst/>
            </a:prstGeom>
            <a:solidFill>
              <a:srgbClr val="71717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642000" y="1702800"/>
              <a:ext cx="212760" cy="401400"/>
            </a:xfrm>
            <a:prstGeom prst="downArrow">
              <a:avLst>
                <a:gd name="adj1" fmla="val 50000"/>
                <a:gd name="adj2" fmla="val 47166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lques défa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ère d’arrêt difficile à trou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ques liés à une mauvaise initialisation de l’espace de recherche (désertifi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ématur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ibilité à l’encod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uence de l’ordre des paramè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on de la solution fi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7600" y="646128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Introduction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Préambul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e de l’imagerie médi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s sources d’information (Scanner, IRM, TEM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é d’interprétation des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écessité de faire du recal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mul d’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s fondées sur des principes physiques différ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s des méthodes class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s de calc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èles de transformation (rigi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irm" descr=""/>
          <p:cNvPicPr/>
          <p:nvPr/>
        </p:nvPicPr>
        <p:blipFill>
          <a:blip r:embed="rId1"/>
          <a:stretch/>
        </p:blipFill>
        <p:spPr>
          <a:xfrm>
            <a:off x="1498680" y="3500280"/>
            <a:ext cx="2441520" cy="2441880"/>
          </a:xfrm>
          <a:prstGeom prst="rect">
            <a:avLst/>
          </a:prstGeom>
          <a:ln w="0">
            <a:noFill/>
          </a:ln>
        </p:spPr>
      </p:pic>
      <p:pic>
        <p:nvPicPr>
          <p:cNvPr id="79" name="tdm" descr=""/>
          <p:cNvPicPr/>
          <p:nvPr/>
        </p:nvPicPr>
        <p:blipFill>
          <a:blip r:embed="rId2"/>
          <a:stretch/>
        </p:blipFill>
        <p:spPr>
          <a:xfrm>
            <a:off x="4911840" y="3519360"/>
            <a:ext cx="2441520" cy="244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66960" y="1755720"/>
            <a:ext cx="1703160" cy="662040"/>
          </a:xfrm>
          <a:prstGeom prst="roundRect">
            <a:avLst>
              <a:gd name="adj" fmla="val 16667"/>
            </a:avLst>
          </a:prstGeom>
          <a:solidFill>
            <a:srgbClr val="325a7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98480" y="1764720"/>
            <a:ext cx="1669680" cy="644040"/>
          </a:xfrm>
          <a:prstGeom prst="roundRect">
            <a:avLst>
              <a:gd name="adj" fmla="val 16667"/>
            </a:avLst>
          </a:prstGeom>
          <a:solidFill>
            <a:srgbClr val="325a7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é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719080" y="2431800"/>
            <a:ext cx="3413520" cy="1087920"/>
            <a:chOff x="2719080" y="2431800"/>
            <a:chExt cx="3413520" cy="1087920"/>
          </a:xfrm>
        </p:grpSpPr>
        <p:cxnSp>
          <p:nvCxnSpPr>
            <p:cNvPr id="83" name=""/>
            <p:cNvCxnSpPr>
              <a:stCxn id="80" idx="2"/>
              <a:endCxn id="78" idx="0"/>
            </p:cNvCxnSpPr>
            <p:nvPr/>
          </p:nvCxnSpPr>
          <p:spPr>
            <a:xfrm>
              <a:off x="2719080" y="2431800"/>
              <a:ext cx="1080" cy="1068480"/>
            </a:xfrm>
            <a:prstGeom prst="straightConnector1">
              <a:avLst/>
            </a:prstGeom>
            <a:ln w="38160">
              <a:solidFill>
                <a:srgbClr val="fe9b03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>
              <a:stCxn id="80" idx="2"/>
              <a:endCxn id="79" idx="0"/>
            </p:cNvCxnSpPr>
            <p:nvPr/>
          </p:nvCxnSpPr>
          <p:spPr>
            <a:xfrm>
              <a:off x="2719080" y="2432160"/>
              <a:ext cx="3413880" cy="1087920"/>
            </a:xfrm>
            <a:prstGeom prst="straightConnector1">
              <a:avLst/>
            </a:prstGeom>
            <a:ln w="38160">
              <a:solidFill>
                <a:srgbClr val="fe9b03"/>
              </a:solidFill>
              <a:miter/>
              <a:tailEnd len="med" type="triangle" w="med"/>
            </a:ln>
          </p:spPr>
        </p:cxnSp>
      </p:grpSp>
      <p:grpSp>
        <p:nvGrpSpPr>
          <p:cNvPr id="85" name=""/>
          <p:cNvGrpSpPr/>
          <p:nvPr/>
        </p:nvGrpSpPr>
        <p:grpSpPr>
          <a:xfrm>
            <a:off x="2719080" y="2431800"/>
            <a:ext cx="3415320" cy="1087560"/>
            <a:chOff x="2719080" y="2431800"/>
            <a:chExt cx="3415320" cy="1087560"/>
          </a:xfrm>
        </p:grpSpPr>
        <p:cxnSp>
          <p:nvCxnSpPr>
            <p:cNvPr id="86" name=""/>
            <p:cNvCxnSpPr>
              <a:stCxn id="78" idx="0"/>
              <a:endCxn id="81" idx="2"/>
            </p:cNvCxnSpPr>
            <p:nvPr/>
          </p:nvCxnSpPr>
          <p:spPr>
            <a:xfrm flipV="1">
              <a:off x="2719080" y="2431800"/>
              <a:ext cx="3415320" cy="1068480"/>
            </a:xfrm>
            <a:prstGeom prst="straightConnector1">
              <a:avLst/>
            </a:prstGeom>
            <a:ln w="38160">
              <a:solidFill>
                <a:srgbClr val="fff527"/>
              </a:solidFill>
              <a:miter/>
              <a:tailEnd len="med" type="triangle" w="med"/>
            </a:ln>
          </p:spPr>
        </p:cxnSp>
        <p:cxnSp>
          <p:nvCxnSpPr>
            <p:cNvPr id="87" name=""/>
            <p:cNvCxnSpPr>
              <a:stCxn id="79" idx="0"/>
              <a:endCxn id="81" idx="2"/>
            </p:cNvCxnSpPr>
            <p:nvPr/>
          </p:nvCxnSpPr>
          <p:spPr>
            <a:xfrm flipV="1">
              <a:off x="6132600" y="2431800"/>
              <a:ext cx="2160" cy="1087920"/>
            </a:xfrm>
            <a:prstGeom prst="straightConnector1">
              <a:avLst/>
            </a:prstGeom>
            <a:ln w="38160">
              <a:solidFill>
                <a:srgbClr val="fff527"/>
              </a:solidFill>
              <a:miter/>
              <a:tailEnd len="med" type="triangle" w="med"/>
            </a:ln>
          </p:spPr>
        </p:cxnSp>
      </p:grpSp>
      <p:sp>
        <p:nvSpPr>
          <p:cNvPr id="88" name=""/>
          <p:cNvSpPr/>
          <p:nvPr/>
        </p:nvSpPr>
        <p:spPr>
          <a:xfrm>
            <a:off x="1322280" y="2697840"/>
            <a:ext cx="27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s modal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76640" y="2697840"/>
            <a:ext cx="27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rétation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9644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Sommair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Objectifs et approche utilis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1. Modèles de dé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2. Optimisation géné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Algorithme robu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che hiérarch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e en œuv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4. Résul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Conclusion et persp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5160960" y="3227400"/>
            <a:ext cx="2247840" cy="1116000"/>
            <a:chOff x="5160960" y="3227400"/>
            <a:chExt cx="2247840" cy="1116000"/>
          </a:xfrm>
        </p:grpSpPr>
        <p:sp>
          <p:nvSpPr>
            <p:cNvPr id="649" name=""/>
            <p:cNvSpPr/>
            <p:nvPr/>
          </p:nvSpPr>
          <p:spPr>
            <a:xfrm>
              <a:off x="5160960" y="3227400"/>
              <a:ext cx="2247840" cy="11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60760" y="3522600"/>
              <a:ext cx="739440" cy="636480"/>
            </a:xfrm>
            <a:prstGeom prst="rect">
              <a:avLst/>
            </a:prstGeom>
            <a:solidFill>
              <a:srgbClr val="325a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6400440" y="3522600"/>
              <a:ext cx="853920" cy="636480"/>
            </a:xfrm>
            <a:custGeom>
              <a:avLst/>
              <a:gdLst>
                <a:gd name="textAreaLeft" fmla="*/ 132480 w 853920"/>
                <a:gd name="textAreaRight" fmla="*/ 721440 w 853920"/>
                <a:gd name="textAreaTop" fmla="*/ 98640 h 636480"/>
                <a:gd name="textAreaBottom" fmla="*/ 537840 h 63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0" y="21600"/>
                  </a:lnTo>
                  <a:lnTo>
                    <a:pt x="2890" y="21600"/>
                  </a:lnTo>
                  <a:close/>
                </a:path>
              </a:pathLst>
            </a:custGeom>
            <a:solidFill>
              <a:srgbClr val="006c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850000" y="3103200"/>
            <a:ext cx="78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a3a3a3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02920" y="1371600"/>
            <a:ext cx="827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pproche hiérarch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réation d’un algorithme de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point-matching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robu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ouver 8 points de S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correspondant à 8 points de S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lgorithme déterministe est à exclure (combinatoi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71680" y="3227400"/>
            <a:ext cx="2247840" cy="1116000"/>
            <a:chOff x="571680" y="3227400"/>
            <a:chExt cx="2247840" cy="1116000"/>
          </a:xfrm>
        </p:grpSpPr>
        <p:sp>
          <p:nvSpPr>
            <p:cNvPr id="657" name=""/>
            <p:cNvSpPr/>
            <p:nvPr/>
          </p:nvSpPr>
          <p:spPr>
            <a:xfrm>
              <a:off x="571680" y="3227400"/>
              <a:ext cx="2247840" cy="11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1480" y="3522600"/>
              <a:ext cx="739440" cy="636480"/>
            </a:xfrm>
            <a:prstGeom prst="rect">
              <a:avLst/>
            </a:prstGeom>
            <a:solidFill>
              <a:srgbClr val="325a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811160" y="3522600"/>
              <a:ext cx="853920" cy="636480"/>
            </a:xfrm>
            <a:custGeom>
              <a:avLst/>
              <a:gdLst>
                <a:gd name="textAreaLeft" fmla="*/ 132480 w 853920"/>
                <a:gd name="textAreaRight" fmla="*/ 721440 w 853920"/>
                <a:gd name="textAreaTop" fmla="*/ 98640 h 636480"/>
                <a:gd name="textAreaBottom" fmla="*/ 537840 h 63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0" y="21600"/>
                  </a:lnTo>
                  <a:lnTo>
                    <a:pt x="2890" y="21600"/>
                  </a:lnTo>
                  <a:close/>
                </a:path>
              </a:pathLst>
            </a:custGeom>
            <a:solidFill>
              <a:srgbClr val="006c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819520" y="3396240"/>
            <a:ext cx="2341800" cy="703800"/>
            <a:chOff x="2819520" y="3396240"/>
            <a:chExt cx="2341800" cy="703800"/>
          </a:xfrm>
        </p:grpSpPr>
        <p:cxnSp>
          <p:nvCxnSpPr>
            <p:cNvPr id="661" name=""/>
            <p:cNvCxnSpPr>
              <a:stCxn id="657" idx="3"/>
              <a:endCxn id="649" idx="1"/>
            </p:cNvCxnSpPr>
            <p:nvPr/>
          </p:nvCxnSpPr>
          <p:spPr>
            <a:xfrm>
              <a:off x="2819520" y="3785760"/>
              <a:ext cx="2342160" cy="1080"/>
            </a:xfrm>
            <a:prstGeom prst="straightConnector1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</p:cxnSp>
        <p:sp>
          <p:nvSpPr>
            <p:cNvPr id="662" name=""/>
            <p:cNvSpPr/>
            <p:nvPr/>
          </p:nvSpPr>
          <p:spPr>
            <a:xfrm>
              <a:off x="3099240" y="3396240"/>
              <a:ext cx="175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imes New Roman"/>
                </a:rPr>
                <a:t>Point-matc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imes New Roman"/>
                </a:rPr>
                <a:t>dir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338800" y="3270240"/>
            <a:ext cx="2012760" cy="880920"/>
            <a:chOff x="5338800" y="3270240"/>
            <a:chExt cx="2012760" cy="880920"/>
          </a:xfrm>
        </p:grpSpPr>
        <p:sp>
          <p:nvSpPr>
            <p:cNvPr id="664" name=""/>
            <p:cNvSpPr/>
            <p:nvPr/>
          </p:nvSpPr>
          <p:spPr>
            <a:xfrm>
              <a:off x="5356080" y="3311640"/>
              <a:ext cx="1148040" cy="220680"/>
            </a:xfrm>
            <a:custGeom>
              <a:avLst/>
              <a:gdLst/>
              <a:ahLst/>
              <a:rect l="l" t="t" r="r" b="b"/>
              <a:pathLst>
                <a:path w="723" h="139">
                  <a:moveTo>
                    <a:pt x="0" y="139"/>
                  </a:moveTo>
                  <a:cubicBezTo>
                    <a:pt x="222" y="72"/>
                    <a:pt x="445" y="6"/>
                    <a:pt x="565" y="3"/>
                  </a:cubicBezTo>
                  <a:cubicBezTo>
                    <a:pt x="685" y="0"/>
                    <a:pt x="690" y="97"/>
                    <a:pt x="723" y="122"/>
                  </a:cubicBezTo>
                </a:path>
              </a:pathLst>
            </a:custGeom>
            <a:noFill/>
            <a:ln w="9360">
              <a:solidFill>
                <a:srgbClr val="d9319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65800" y="3270240"/>
              <a:ext cx="1774800" cy="252360"/>
            </a:xfrm>
            <a:custGeom>
              <a:avLst/>
              <a:gdLst/>
              <a:ahLst/>
              <a:rect l="l" t="t" r="r" b="b"/>
              <a:pathLst>
                <a:path w="1118" h="159">
                  <a:moveTo>
                    <a:pt x="0" y="154"/>
                  </a:moveTo>
                  <a:cubicBezTo>
                    <a:pt x="127" y="129"/>
                    <a:pt x="576" y="0"/>
                    <a:pt x="762" y="1"/>
                  </a:cubicBezTo>
                  <a:cubicBezTo>
                    <a:pt x="948" y="2"/>
                    <a:pt x="1044" y="126"/>
                    <a:pt x="1118" y="159"/>
                  </a:cubicBezTo>
                </a:path>
              </a:pathLst>
            </a:custGeom>
            <a:noFill/>
            <a:ln w="9360">
              <a:solidFill>
                <a:srgbClr val="d9319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92800" y="3541680"/>
              <a:ext cx="1065240" cy="609480"/>
            </a:xfrm>
            <a:custGeom>
              <a:avLst/>
              <a:gdLst/>
              <a:ahLst/>
              <a:rect l="l" t="t" r="r" b="b"/>
              <a:pathLst>
                <a:path w="671" h="384">
                  <a:moveTo>
                    <a:pt x="0" y="0"/>
                  </a:moveTo>
                  <a:cubicBezTo>
                    <a:pt x="94" y="15"/>
                    <a:pt x="459" y="26"/>
                    <a:pt x="565" y="90"/>
                  </a:cubicBezTo>
                  <a:cubicBezTo>
                    <a:pt x="671" y="154"/>
                    <a:pt x="623" y="323"/>
                    <a:pt x="638" y="384"/>
                  </a:cubicBezTo>
                </a:path>
              </a:pathLst>
            </a:custGeom>
            <a:noFill/>
            <a:ln w="9360">
              <a:solidFill>
                <a:srgbClr val="d9319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38800" y="3514680"/>
              <a:ext cx="2012760" cy="636480"/>
            </a:xfrm>
            <a:custGeom>
              <a:avLst/>
              <a:gdLst/>
              <a:ahLst/>
              <a:rect l="l" t="t" r="r" b="b"/>
              <a:pathLst>
                <a:path w="1268" h="401">
                  <a:moveTo>
                    <a:pt x="0" y="0"/>
                  </a:moveTo>
                  <a:cubicBezTo>
                    <a:pt x="178" y="31"/>
                    <a:pt x="866" y="119"/>
                    <a:pt x="1067" y="186"/>
                  </a:cubicBezTo>
                  <a:cubicBezTo>
                    <a:pt x="1268" y="253"/>
                    <a:pt x="1179" y="356"/>
                    <a:pt x="1209" y="401"/>
                  </a:cubicBezTo>
                </a:path>
              </a:pathLst>
            </a:custGeom>
            <a:noFill/>
            <a:ln w="9360">
              <a:solidFill>
                <a:srgbClr val="d9319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48160" y="3244680"/>
            <a:ext cx="1882800" cy="914400"/>
            <a:chOff x="5348160" y="3244680"/>
            <a:chExt cx="1882800" cy="914400"/>
          </a:xfrm>
        </p:grpSpPr>
        <p:sp>
          <p:nvSpPr>
            <p:cNvPr id="669" name=""/>
            <p:cNvSpPr/>
            <p:nvPr/>
          </p:nvSpPr>
          <p:spPr>
            <a:xfrm>
              <a:off x="5365800" y="3365640"/>
              <a:ext cx="1138320" cy="776160"/>
            </a:xfrm>
            <a:custGeom>
              <a:avLst/>
              <a:gdLst/>
              <a:ahLst/>
              <a:rect l="l" t="t" r="r" b="b"/>
              <a:pathLst>
                <a:path w="717" h="489">
                  <a:moveTo>
                    <a:pt x="0" y="489"/>
                  </a:moveTo>
                  <a:cubicBezTo>
                    <a:pt x="90" y="418"/>
                    <a:pt x="418" y="130"/>
                    <a:pt x="537" y="65"/>
                  </a:cubicBezTo>
                  <a:cubicBezTo>
                    <a:pt x="656" y="0"/>
                    <a:pt x="680" y="92"/>
                    <a:pt x="717" y="99"/>
                  </a:cubicBezTo>
                </a:path>
              </a:pathLst>
            </a:custGeom>
            <a:noFill/>
            <a:ln w="93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56080" y="3871800"/>
              <a:ext cx="1041480" cy="260640"/>
            </a:xfrm>
            <a:custGeom>
              <a:avLst/>
              <a:gdLst/>
              <a:ahLst/>
              <a:rect l="l" t="t" r="r" b="b"/>
              <a:pathLst>
                <a:path w="656" h="164">
                  <a:moveTo>
                    <a:pt x="0" y="164"/>
                  </a:moveTo>
                  <a:cubicBezTo>
                    <a:pt x="86" y="137"/>
                    <a:pt x="405" y="2"/>
                    <a:pt x="514" y="1"/>
                  </a:cubicBezTo>
                  <a:cubicBezTo>
                    <a:pt x="623" y="0"/>
                    <a:pt x="627" y="126"/>
                    <a:pt x="656" y="159"/>
                  </a:cubicBezTo>
                </a:path>
              </a:pathLst>
            </a:custGeom>
            <a:noFill/>
            <a:ln w="93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56080" y="3244680"/>
              <a:ext cx="1766880" cy="906480"/>
            </a:xfrm>
            <a:custGeom>
              <a:avLst/>
              <a:gdLst/>
              <a:ahLst/>
              <a:rect l="l" t="t" r="r" b="b"/>
              <a:pathLst>
                <a:path w="1113" h="571">
                  <a:moveTo>
                    <a:pt x="0" y="571"/>
                  </a:moveTo>
                  <a:cubicBezTo>
                    <a:pt x="114" y="486"/>
                    <a:pt x="499" y="124"/>
                    <a:pt x="684" y="62"/>
                  </a:cubicBezTo>
                  <a:cubicBezTo>
                    <a:pt x="869" y="0"/>
                    <a:pt x="1024" y="170"/>
                    <a:pt x="1113" y="198"/>
                  </a:cubicBezTo>
                </a:path>
              </a:pathLst>
            </a:custGeom>
            <a:noFill/>
            <a:ln w="93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8160" y="3797280"/>
              <a:ext cx="1882800" cy="361800"/>
            </a:xfrm>
            <a:custGeom>
              <a:avLst/>
              <a:gdLst/>
              <a:ahLst/>
              <a:rect l="l" t="t" r="r" b="b"/>
              <a:pathLst>
                <a:path w="1186" h="228">
                  <a:moveTo>
                    <a:pt x="0" y="217"/>
                  </a:moveTo>
                  <a:cubicBezTo>
                    <a:pt x="129" y="181"/>
                    <a:pt x="575" y="0"/>
                    <a:pt x="773" y="2"/>
                  </a:cubicBezTo>
                  <a:cubicBezTo>
                    <a:pt x="971" y="4"/>
                    <a:pt x="1100" y="181"/>
                    <a:pt x="1186" y="228"/>
                  </a:cubicBezTo>
                </a:path>
              </a:pathLst>
            </a:custGeom>
            <a:noFill/>
            <a:ln w="93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4820400" y="3227400"/>
            <a:ext cx="2588400" cy="2501280"/>
            <a:chOff x="4820400" y="3227400"/>
            <a:chExt cx="2588400" cy="2501280"/>
          </a:xfrm>
        </p:grpSpPr>
        <p:cxnSp>
          <p:nvCxnSpPr>
            <p:cNvPr id="674" name=""/>
            <p:cNvCxnSpPr>
              <a:stCxn id="675" idx="3"/>
              <a:endCxn id="649" idx="2"/>
            </p:cNvCxnSpPr>
            <p:nvPr/>
          </p:nvCxnSpPr>
          <p:spPr>
            <a:xfrm flipV="1">
              <a:off x="5186160" y="4343040"/>
              <a:ext cx="1099080" cy="1334160"/>
            </a:xfrm>
            <a:prstGeom prst="straightConnector1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</p:cxnSp>
        <p:sp>
          <p:nvSpPr>
            <p:cNvPr id="676" name=""/>
            <p:cNvSpPr/>
            <p:nvPr/>
          </p:nvSpPr>
          <p:spPr>
            <a:xfrm>
              <a:off x="4820400" y="5329800"/>
              <a:ext cx="245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0" lang="fr-FR" sz="2000" spc="-1" strike="noStrike">
                  <a:solidFill>
                    <a:srgbClr val="ffffff"/>
                  </a:solidFill>
                  <a:latin typeface="Times New Roman"/>
                </a:rPr>
                <a:t>Point-matc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5160960" y="3227400"/>
              <a:ext cx="2247840" cy="1116000"/>
              <a:chOff x="5160960" y="3227400"/>
              <a:chExt cx="2247840" cy="1116000"/>
            </a:xfrm>
          </p:grpSpPr>
          <p:sp>
            <p:nvSpPr>
              <p:cNvPr id="678" name=""/>
              <p:cNvSpPr/>
              <p:nvPr/>
            </p:nvSpPr>
            <p:spPr>
              <a:xfrm>
                <a:off x="5160960" y="3227400"/>
                <a:ext cx="2247840" cy="11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360760" y="3522600"/>
                <a:ext cx="739440" cy="636480"/>
              </a:xfrm>
              <a:prstGeom prst="rect">
                <a:avLst/>
              </a:prstGeom>
              <a:solidFill>
                <a:srgbClr val="325a7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400440" y="3522600"/>
                <a:ext cx="853920" cy="636480"/>
              </a:xfrm>
              <a:custGeom>
                <a:avLst/>
                <a:gdLst>
                  <a:gd name="textAreaLeft" fmla="*/ 132480 w 853920"/>
                  <a:gd name="textAreaRight" fmla="*/ 721440 w 853920"/>
                  <a:gd name="textAreaTop" fmla="*/ 98640 h 636480"/>
                  <a:gd name="textAreaBottom" fmla="*/ 537840 h 63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710" y="21600"/>
                    </a:lnTo>
                    <a:lnTo>
                      <a:pt x="2890" y="21600"/>
                    </a:lnTo>
                    <a:close/>
                  </a:path>
                </a:pathLst>
              </a:custGeom>
              <a:solidFill>
                <a:srgbClr val="006c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5356080" y="3297240"/>
              <a:ext cx="1157400" cy="235080"/>
            </a:xfrm>
            <a:custGeom>
              <a:avLst/>
              <a:gdLst/>
              <a:ahLst/>
              <a:rect l="l" t="t" r="r" b="b"/>
              <a:pathLst>
                <a:path w="729" h="148">
                  <a:moveTo>
                    <a:pt x="0" y="148"/>
                  </a:moveTo>
                  <a:cubicBezTo>
                    <a:pt x="222" y="75"/>
                    <a:pt x="444" y="2"/>
                    <a:pt x="565" y="1"/>
                  </a:cubicBezTo>
                  <a:cubicBezTo>
                    <a:pt x="686" y="0"/>
                    <a:pt x="707" y="71"/>
                    <a:pt x="729" y="142"/>
                  </a:cubicBezTo>
                </a:path>
              </a:pathLst>
            </a:custGeom>
            <a:noFill/>
            <a:ln w="28440">
              <a:solidFill>
                <a:srgbClr val="d9319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64000" y="3906720"/>
              <a:ext cx="1022400" cy="235080"/>
            </a:xfrm>
            <a:custGeom>
              <a:avLst/>
              <a:gdLst/>
              <a:ahLst/>
              <a:rect l="l" t="t" r="r" b="b"/>
              <a:pathLst>
                <a:path w="729" h="148">
                  <a:moveTo>
                    <a:pt x="0" y="148"/>
                  </a:moveTo>
                  <a:cubicBezTo>
                    <a:pt x="222" y="75"/>
                    <a:pt x="444" y="2"/>
                    <a:pt x="565" y="1"/>
                  </a:cubicBezTo>
                  <a:cubicBezTo>
                    <a:pt x="686" y="0"/>
                    <a:pt x="707" y="71"/>
                    <a:pt x="729" y="142"/>
                  </a:cubicBezTo>
                </a:path>
              </a:pathLst>
            </a:custGeom>
            <a:noFill/>
            <a:ln w="2844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73720" y="3271680"/>
              <a:ext cx="1281240" cy="243000"/>
            </a:xfrm>
            <a:custGeom>
              <a:avLst/>
              <a:gdLst/>
              <a:ahLst/>
              <a:rect l="l" t="t" r="r" b="b"/>
              <a:pathLst>
                <a:path w="807" h="153">
                  <a:moveTo>
                    <a:pt x="0" y="152"/>
                  </a:moveTo>
                  <a:cubicBezTo>
                    <a:pt x="112" y="127"/>
                    <a:pt x="543" y="0"/>
                    <a:pt x="675" y="0"/>
                  </a:cubicBezTo>
                  <a:cubicBezTo>
                    <a:pt x="807" y="0"/>
                    <a:pt x="769" y="121"/>
                    <a:pt x="794" y="153"/>
                  </a:cubicBezTo>
                </a:path>
              </a:pathLst>
            </a:custGeom>
            <a:noFill/>
            <a:ln w="28440">
              <a:solidFill>
                <a:srgbClr val="d9319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83080" y="3762360"/>
              <a:ext cx="1035360" cy="361800"/>
            </a:xfrm>
            <a:custGeom>
              <a:avLst/>
              <a:gdLst/>
              <a:ahLst/>
              <a:rect l="l" t="t" r="r" b="b"/>
              <a:pathLst>
                <a:path w="652" h="228">
                  <a:moveTo>
                    <a:pt x="0" y="228"/>
                  </a:moveTo>
                  <a:cubicBezTo>
                    <a:pt x="86" y="192"/>
                    <a:pt x="408" y="26"/>
                    <a:pt x="517" y="13"/>
                  </a:cubicBezTo>
                  <a:cubicBezTo>
                    <a:pt x="626" y="0"/>
                    <a:pt x="624" y="121"/>
                    <a:pt x="652" y="149"/>
                  </a:cubicBezTo>
                </a:path>
              </a:pathLst>
            </a:custGeom>
            <a:noFill/>
            <a:ln w="2844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347240" y="3424680"/>
            <a:ext cx="1355760" cy="703800"/>
            <a:chOff x="7347240" y="3424680"/>
            <a:chExt cx="1355760" cy="703800"/>
          </a:xfrm>
        </p:grpSpPr>
        <p:sp>
          <p:nvSpPr>
            <p:cNvPr id="686" name=""/>
            <p:cNvSpPr/>
            <p:nvPr/>
          </p:nvSpPr>
          <p:spPr>
            <a:xfrm>
              <a:off x="7347240" y="3424680"/>
              <a:ext cx="1355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ffin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27880" y="3762360"/>
              <a:ext cx="127332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61680" y="4343400"/>
            <a:ext cx="4524840" cy="1890720"/>
            <a:chOff x="661680" y="4343400"/>
            <a:chExt cx="4524840" cy="1890720"/>
          </a:xfrm>
        </p:grpSpPr>
        <p:grpSp>
          <p:nvGrpSpPr>
            <p:cNvPr id="689" name=""/>
            <p:cNvGrpSpPr/>
            <p:nvPr/>
          </p:nvGrpSpPr>
          <p:grpSpPr>
            <a:xfrm>
              <a:off x="661680" y="4343400"/>
              <a:ext cx="2277000" cy="1537920"/>
              <a:chOff x="661680" y="4343400"/>
              <a:chExt cx="2277000" cy="1537920"/>
            </a:xfrm>
          </p:grpSpPr>
          <p:cxnSp>
            <p:nvCxnSpPr>
              <p:cNvPr id="690" name=""/>
              <p:cNvCxnSpPr>
                <a:stCxn id="657" idx="2"/>
                <a:endCxn id="675" idx="1"/>
              </p:cNvCxnSpPr>
              <p:nvPr/>
            </p:nvCxnSpPr>
            <p:spPr>
              <a:xfrm>
                <a:off x="1695600" y="4343400"/>
                <a:ext cx="1243440" cy="1334160"/>
              </a:xfrm>
              <a:prstGeom prst="straightConnector1">
                <a:avLst/>
              </a:prstGeom>
              <a:ln w="28440">
                <a:solidFill>
                  <a:srgbClr val="fe9b03"/>
                </a:solidFill>
                <a:miter/>
                <a:tailEnd len="med" type="triangle" w="med"/>
              </a:ln>
            </p:spPr>
          </p:cxnSp>
          <p:sp>
            <p:nvSpPr>
              <p:cNvPr id="691" name=""/>
              <p:cNvSpPr/>
              <p:nvPr/>
            </p:nvSpPr>
            <p:spPr>
              <a:xfrm>
                <a:off x="661680" y="5177520"/>
                <a:ext cx="1803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pproximatio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rigi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938320" y="5118120"/>
              <a:ext cx="2248200" cy="1116000"/>
              <a:chOff x="2938320" y="5118120"/>
              <a:chExt cx="2248200" cy="1116000"/>
            </a:xfrm>
          </p:grpSpPr>
          <p:sp>
            <p:nvSpPr>
              <p:cNvPr id="675" name=""/>
              <p:cNvSpPr/>
              <p:nvPr/>
            </p:nvSpPr>
            <p:spPr>
              <a:xfrm>
                <a:off x="2938320" y="5118120"/>
                <a:ext cx="2248200" cy="11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720960" y="5413320"/>
                <a:ext cx="739800" cy="636480"/>
              </a:xfrm>
              <a:prstGeom prst="rect">
                <a:avLst/>
              </a:prstGeom>
              <a:solidFill>
                <a:srgbClr val="325a78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3684600" y="5413320"/>
                <a:ext cx="853920" cy="636480"/>
              </a:xfrm>
              <a:custGeom>
                <a:avLst/>
                <a:gdLst>
                  <a:gd name="textAreaLeft" fmla="*/ 132480 w 853920"/>
                  <a:gd name="textAreaRight" fmla="*/ 721440 w 853920"/>
                  <a:gd name="textAreaTop" fmla="*/ 98640 h 636480"/>
                  <a:gd name="textAreaBottom" fmla="*/ 537840 h 63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710" y="21600"/>
                    </a:lnTo>
                    <a:lnTo>
                      <a:pt x="2890" y="21600"/>
                    </a:lnTo>
                    <a:close/>
                  </a:path>
                </a:pathLst>
              </a:custGeom>
              <a:solidFill>
                <a:srgbClr val="006c6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"/>
          <p:cNvGrpSpPr/>
          <p:nvPr/>
        </p:nvGrpSpPr>
        <p:grpSpPr>
          <a:xfrm>
            <a:off x="2876760" y="4750560"/>
            <a:ext cx="2204640" cy="1483560"/>
            <a:chOff x="2876760" y="4750560"/>
            <a:chExt cx="2204640" cy="1483560"/>
          </a:xfrm>
        </p:grpSpPr>
        <p:sp>
          <p:nvSpPr>
            <p:cNvPr id="696" name=""/>
            <p:cNvSpPr/>
            <p:nvPr/>
          </p:nvSpPr>
          <p:spPr>
            <a:xfrm>
              <a:off x="3564000" y="5300640"/>
              <a:ext cx="371520" cy="371520"/>
            </a:xfrm>
            <a:prstGeom prst="ellipse">
              <a:avLst/>
            </a:prstGeom>
            <a:noFill/>
            <a:ln w="2844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64000" y="5862600"/>
              <a:ext cx="371520" cy="371520"/>
            </a:xfrm>
            <a:prstGeom prst="ellipse">
              <a:avLst/>
            </a:prstGeom>
            <a:noFill/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76760" y="475056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réation de coup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395520" y="3170160"/>
            <a:ext cx="1265400" cy="1249200"/>
            <a:chOff x="3395520" y="3170160"/>
            <a:chExt cx="1265400" cy="1249200"/>
          </a:xfrm>
        </p:grpSpPr>
        <p:sp>
          <p:nvSpPr>
            <p:cNvPr id="700" name=""/>
            <p:cNvSpPr/>
            <p:nvPr/>
          </p:nvSpPr>
          <p:spPr>
            <a:xfrm>
              <a:off x="3424320" y="3179520"/>
              <a:ext cx="1236600" cy="12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3395520" y="3170160"/>
              <a:ext cx="1236960" cy="12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age rigide (approxim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IRM" descr=""/>
          <p:cNvPicPr/>
          <p:nvPr/>
        </p:nvPicPr>
        <p:blipFill>
          <a:blip r:embed="rId1"/>
          <a:stretch/>
        </p:blipFill>
        <p:spPr>
          <a:xfrm>
            <a:off x="7010280" y="1981080"/>
            <a:ext cx="1352520" cy="1041480"/>
          </a:xfrm>
          <a:prstGeom prst="rect">
            <a:avLst/>
          </a:prstGeom>
          <a:ln w="0">
            <a:noFill/>
          </a:ln>
        </p:spPr>
      </p:pic>
      <p:pic>
        <p:nvPicPr>
          <p:cNvPr id="706" name="TDM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1295280" cy="103500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2649960" y="2064960"/>
            <a:ext cx="1278720" cy="91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981080" y="2660400"/>
            <a:ext cx="669960" cy="6120"/>
          </a:xfrm>
          <a:prstGeom prst="line">
            <a:avLst/>
          </a:prstGeom>
          <a:ln w="28440">
            <a:solidFill>
              <a:srgbClr val="fff5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38920" y="2064960"/>
            <a:ext cx="1278720" cy="91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324120" y="2665440"/>
            <a:ext cx="684360" cy="1440"/>
          </a:xfrm>
          <a:prstGeom prst="line">
            <a:avLst/>
          </a:prstGeom>
          <a:ln w="28440">
            <a:solidFill>
              <a:srgbClr val="fff5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221440" y="2994120"/>
            <a:ext cx="2093760" cy="1235160"/>
            <a:chOff x="5221440" y="2994120"/>
            <a:chExt cx="2093760" cy="1235160"/>
          </a:xfrm>
        </p:grpSpPr>
        <p:sp>
          <p:nvSpPr>
            <p:cNvPr id="712" name=""/>
            <p:cNvSpPr/>
            <p:nvPr/>
          </p:nvSpPr>
          <p:spPr>
            <a:xfrm>
              <a:off x="5221440" y="3298680"/>
              <a:ext cx="2093760" cy="93060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dèle d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ransform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igi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84680" y="2994120"/>
              <a:ext cx="0" cy="28728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1554120" y="2994120"/>
            <a:ext cx="3643200" cy="1235160"/>
            <a:chOff x="1554120" y="2994120"/>
            <a:chExt cx="3643200" cy="1235160"/>
          </a:xfrm>
        </p:grpSpPr>
        <p:sp>
          <p:nvSpPr>
            <p:cNvPr id="715" name=""/>
            <p:cNvSpPr/>
            <p:nvPr/>
          </p:nvSpPr>
          <p:spPr>
            <a:xfrm>
              <a:off x="1554120" y="3298680"/>
              <a:ext cx="2094120" cy="93060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onct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st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54400" y="2994120"/>
              <a:ext cx="0" cy="28728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3660840" y="3787560"/>
              <a:ext cx="1536480" cy="612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063800" y="3943440"/>
            <a:ext cx="4824360" cy="2265120"/>
            <a:chOff x="1063800" y="3943440"/>
            <a:chExt cx="4824360" cy="2265120"/>
          </a:xfrm>
        </p:grpSpPr>
        <p:grpSp>
          <p:nvGrpSpPr>
            <p:cNvPr id="719" name=""/>
            <p:cNvGrpSpPr/>
            <p:nvPr/>
          </p:nvGrpSpPr>
          <p:grpSpPr>
            <a:xfrm>
              <a:off x="1063800" y="3943440"/>
              <a:ext cx="4824360" cy="2265120"/>
              <a:chOff x="1063800" y="3943440"/>
              <a:chExt cx="4824360" cy="2265120"/>
            </a:xfrm>
          </p:grpSpPr>
          <p:sp>
            <p:nvSpPr>
              <p:cNvPr id="720" name=""/>
              <p:cNvSpPr/>
              <p:nvPr/>
            </p:nvSpPr>
            <p:spPr>
              <a:xfrm>
                <a:off x="1063800" y="4379760"/>
                <a:ext cx="482436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325a7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89000" indent="-1890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     </a:t>
                </a:r>
                <a:r>
                  <a:rPr b="0" lang="en-US" sz="24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AG  pour recalage rigide :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89000" indent="-1890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89000" indent="-189000"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translation 3D + rotation 3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89000" indent="-189000"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achage de l’espace de recherch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89000" indent="-189000"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Mutation locale et recombinaison unifor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657440" y="3943440"/>
                <a:ext cx="0" cy="75384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 flipV="1">
              <a:off x="5299200" y="3997440"/>
              <a:ext cx="385920" cy="69984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915080" y="4464720"/>
            <a:ext cx="3835080" cy="1720440"/>
            <a:chOff x="4915080" y="4464720"/>
            <a:chExt cx="3835080" cy="1720440"/>
          </a:xfrm>
        </p:grpSpPr>
        <p:sp>
          <p:nvSpPr>
            <p:cNvPr id="724" name=""/>
            <p:cNvSpPr/>
            <p:nvPr/>
          </p:nvSpPr>
          <p:spPr>
            <a:xfrm>
              <a:off x="4915080" y="4464720"/>
              <a:ext cx="1666800" cy="1650600"/>
            </a:xfrm>
            <a:custGeom>
              <a:avLst/>
              <a:gdLst>
                <a:gd name="textAreaLeft" fmla="*/ 260280 w 1666800"/>
                <a:gd name="textAreaRight" fmla="*/ 1458720 w 1666800"/>
                <a:gd name="textAreaTop" fmla="*/ 412560 h 1650600"/>
                <a:gd name="textAreaBottom" fmla="*/ 1238040 h 165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illeu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69560" y="4493520"/>
              <a:ext cx="2280600" cy="1691640"/>
            </a:xfrm>
            <a:prstGeom prst="roundRect">
              <a:avLst>
                <a:gd name="adj" fmla="val 16667"/>
              </a:avLst>
            </a:prstGeom>
            <a:solidFill>
              <a:srgbClr val="858585"/>
            </a:solidFill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proxim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u recalage 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9000" indent="-18900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ranslation 3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9000" indent="-18900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otation 3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9000" indent="-18900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rreur média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éation d’une liste de cou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IRM" descr=""/>
          <p:cNvPicPr/>
          <p:nvPr/>
        </p:nvPicPr>
        <p:blipFill>
          <a:blip r:embed="rId1"/>
          <a:stretch/>
        </p:blipFill>
        <p:spPr>
          <a:xfrm>
            <a:off x="7010280" y="1981080"/>
            <a:ext cx="1352520" cy="1041480"/>
          </a:xfrm>
          <a:prstGeom prst="rect">
            <a:avLst/>
          </a:prstGeom>
          <a:ln w="0">
            <a:noFill/>
          </a:ln>
        </p:spPr>
      </p:pic>
      <p:pic>
        <p:nvPicPr>
          <p:cNvPr id="730" name="TDM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1295280" cy="103500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1981080" y="2064960"/>
            <a:ext cx="1642680" cy="914760"/>
            <a:chOff x="1981080" y="2064960"/>
            <a:chExt cx="1642680" cy="914760"/>
          </a:xfrm>
        </p:grpSpPr>
        <p:sp>
          <p:nvSpPr>
            <p:cNvPr id="732" name=""/>
            <p:cNvSpPr/>
            <p:nvPr/>
          </p:nvSpPr>
          <p:spPr>
            <a:xfrm>
              <a:off x="2345040" y="2064960"/>
              <a:ext cx="1278720" cy="914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urfac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ann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1981080" y="2664000"/>
              <a:ext cx="338400" cy="288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361480" y="2064960"/>
            <a:ext cx="1647360" cy="914760"/>
            <a:chOff x="5361480" y="2064960"/>
            <a:chExt cx="1647360" cy="914760"/>
          </a:xfrm>
        </p:grpSpPr>
        <p:sp>
          <p:nvSpPr>
            <p:cNvPr id="735" name=""/>
            <p:cNvSpPr/>
            <p:nvPr/>
          </p:nvSpPr>
          <p:spPr>
            <a:xfrm>
              <a:off x="5361480" y="2064960"/>
              <a:ext cx="1278720" cy="914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urfac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6675480" y="2665440"/>
              <a:ext cx="333360" cy="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3706920" y="2101680"/>
            <a:ext cx="1560240" cy="809640"/>
          </a:xfrm>
          <a:prstGeom prst="roundRect">
            <a:avLst>
              <a:gd name="adj" fmla="val 16667"/>
            </a:avLst>
          </a:prstGeom>
          <a:solidFill>
            <a:srgbClr val="858585"/>
          </a:solidFill>
          <a:ln w="28440">
            <a:solidFill>
              <a:srgbClr val="fff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9000" indent="-189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Transf. rigid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Tx,Ty,Tz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Rx,Ry,R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Distance média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603440" y="2994120"/>
            <a:ext cx="5854680" cy="1711080"/>
            <a:chOff x="1603440" y="2994120"/>
            <a:chExt cx="5854680" cy="1711080"/>
          </a:xfrm>
        </p:grpSpPr>
        <p:grpSp>
          <p:nvGrpSpPr>
            <p:cNvPr id="739" name=""/>
            <p:cNvGrpSpPr/>
            <p:nvPr/>
          </p:nvGrpSpPr>
          <p:grpSpPr>
            <a:xfrm>
              <a:off x="1603440" y="2994120"/>
              <a:ext cx="1604880" cy="1711080"/>
              <a:chOff x="1603440" y="2994120"/>
              <a:chExt cx="1604880" cy="1711080"/>
            </a:xfrm>
          </p:grpSpPr>
          <p:sp>
            <p:nvSpPr>
              <p:cNvPr id="740" name=""/>
              <p:cNvSpPr/>
              <p:nvPr/>
            </p:nvSpPr>
            <p:spPr>
              <a:xfrm>
                <a:off x="2949480" y="2994120"/>
                <a:ext cx="0" cy="28728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1603440" y="3289320"/>
                <a:ext cx="1604880" cy="1415880"/>
                <a:chOff x="1603440" y="3289320"/>
                <a:chExt cx="1604880" cy="14158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1603440" y="3289320"/>
                  <a:ext cx="1604880" cy="141588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fff52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830600" y="3619440"/>
                  <a:ext cx="1171440" cy="889200"/>
                </a:xfrm>
                <a:custGeom>
                  <a:avLst/>
                  <a:gdLst/>
                  <a:ahLst/>
                  <a:rect l="l" t="t" r="r" b="b"/>
                  <a:pathLst>
                    <a:path w="738" h="560">
                      <a:moveTo>
                        <a:pt x="66" y="560"/>
                      </a:moveTo>
                      <a:cubicBezTo>
                        <a:pt x="33" y="450"/>
                        <a:pt x="0" y="340"/>
                        <a:pt x="27" y="261"/>
                      </a:cubicBezTo>
                      <a:cubicBezTo>
                        <a:pt x="54" y="182"/>
                        <a:pt x="145" y="125"/>
                        <a:pt x="230" y="86"/>
                      </a:cubicBezTo>
                      <a:cubicBezTo>
                        <a:pt x="315" y="47"/>
                        <a:pt x="450" y="0"/>
                        <a:pt x="535" y="24"/>
                      </a:cubicBezTo>
                      <a:cubicBezTo>
                        <a:pt x="620" y="48"/>
                        <a:pt x="679" y="140"/>
                        <a:pt x="738" y="233"/>
                      </a:cubicBezTo>
                    </a:path>
                  </a:pathLst>
                </a:custGeom>
                <a:noFill/>
                <a:ln w="28440">
                  <a:solidFill>
                    <a:srgbClr val="fff52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4" name=""/>
            <p:cNvGrpSpPr/>
            <p:nvPr/>
          </p:nvGrpSpPr>
          <p:grpSpPr>
            <a:xfrm>
              <a:off x="5853240" y="2994120"/>
              <a:ext cx="1604880" cy="1711080"/>
              <a:chOff x="5853240" y="2994120"/>
              <a:chExt cx="1604880" cy="1711080"/>
            </a:xfrm>
          </p:grpSpPr>
          <p:sp>
            <p:nvSpPr>
              <p:cNvPr id="745" name=""/>
              <p:cNvSpPr/>
              <p:nvPr/>
            </p:nvSpPr>
            <p:spPr>
              <a:xfrm>
                <a:off x="6121440" y="2994120"/>
                <a:ext cx="0" cy="28728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5853240" y="3289320"/>
                <a:ext cx="1604880" cy="1415880"/>
                <a:chOff x="5853240" y="3289320"/>
                <a:chExt cx="1604880" cy="14158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5853240" y="3289320"/>
                  <a:ext cx="1604880" cy="141588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fff52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093000" y="3530520"/>
                  <a:ext cx="1112760" cy="978120"/>
                </a:xfrm>
                <a:custGeom>
                  <a:avLst/>
                  <a:gdLst/>
                  <a:ahLst/>
                  <a:rect l="l" t="t" r="r" b="b"/>
                  <a:pathLst>
                    <a:path w="701" h="616">
                      <a:moveTo>
                        <a:pt x="103" y="616"/>
                      </a:moveTo>
                      <a:cubicBezTo>
                        <a:pt x="90" y="566"/>
                        <a:pt x="0" y="405"/>
                        <a:pt x="19" y="317"/>
                      </a:cubicBezTo>
                      <a:cubicBezTo>
                        <a:pt x="38" y="229"/>
                        <a:pt x="129" y="132"/>
                        <a:pt x="216" y="86"/>
                      </a:cubicBezTo>
                      <a:cubicBezTo>
                        <a:pt x="303" y="40"/>
                        <a:pt x="462" y="0"/>
                        <a:pt x="543" y="40"/>
                      </a:cubicBezTo>
                      <a:cubicBezTo>
                        <a:pt x="624" y="80"/>
                        <a:pt x="668" y="268"/>
                        <a:pt x="701" y="328"/>
                      </a:cubicBezTo>
                    </a:path>
                  </a:pathLst>
                </a:custGeom>
                <a:noFill/>
                <a:ln w="28440">
                  <a:solidFill>
                    <a:srgbClr val="00b7a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9" name=""/>
          <p:cNvGrpSpPr/>
          <p:nvPr/>
        </p:nvGrpSpPr>
        <p:grpSpPr>
          <a:xfrm>
            <a:off x="3225960" y="2921040"/>
            <a:ext cx="2624040" cy="1784160"/>
            <a:chOff x="3225960" y="2921040"/>
            <a:chExt cx="2624040" cy="1784160"/>
          </a:xfrm>
        </p:grpSpPr>
        <p:grpSp>
          <p:nvGrpSpPr>
            <p:cNvPr id="750" name=""/>
            <p:cNvGrpSpPr/>
            <p:nvPr/>
          </p:nvGrpSpPr>
          <p:grpSpPr>
            <a:xfrm>
              <a:off x="3727440" y="3289320"/>
              <a:ext cx="1604880" cy="1415880"/>
              <a:chOff x="3727440" y="3289320"/>
              <a:chExt cx="1604880" cy="1415880"/>
            </a:xfrm>
          </p:grpSpPr>
          <p:sp>
            <p:nvSpPr>
              <p:cNvPr id="751" name=""/>
              <p:cNvSpPr/>
              <p:nvPr/>
            </p:nvSpPr>
            <p:spPr>
              <a:xfrm>
                <a:off x="3727440" y="3289320"/>
                <a:ext cx="1604880" cy="14158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954600" y="3619440"/>
                <a:ext cx="1171440" cy="889200"/>
              </a:xfrm>
              <a:custGeom>
                <a:avLst/>
                <a:gdLst/>
                <a:ahLst/>
                <a:rect l="l" t="t" r="r" b="b"/>
                <a:pathLst>
                  <a:path w="738" h="560">
                    <a:moveTo>
                      <a:pt x="66" y="560"/>
                    </a:moveTo>
                    <a:cubicBezTo>
                      <a:pt x="33" y="450"/>
                      <a:pt x="0" y="340"/>
                      <a:pt x="27" y="261"/>
                    </a:cubicBezTo>
                    <a:cubicBezTo>
                      <a:pt x="54" y="182"/>
                      <a:pt x="145" y="125"/>
                      <a:pt x="230" y="86"/>
                    </a:cubicBezTo>
                    <a:cubicBezTo>
                      <a:pt x="315" y="47"/>
                      <a:pt x="450" y="0"/>
                      <a:pt x="535" y="24"/>
                    </a:cubicBezTo>
                    <a:cubicBezTo>
                      <a:pt x="620" y="48"/>
                      <a:pt x="679" y="140"/>
                      <a:pt x="738" y="233"/>
                    </a:cubicBezTo>
                  </a:path>
                </a:pathLst>
              </a:custGeom>
              <a:noFill/>
              <a:ln w="28440">
                <a:solidFill>
                  <a:srgbClr val="fff5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968640" y="3557520"/>
                <a:ext cx="1112760" cy="978120"/>
              </a:xfrm>
              <a:custGeom>
                <a:avLst/>
                <a:gdLst/>
                <a:ahLst/>
                <a:rect l="l" t="t" r="r" b="b"/>
                <a:pathLst>
                  <a:path w="701" h="616">
                    <a:moveTo>
                      <a:pt x="103" y="616"/>
                    </a:moveTo>
                    <a:cubicBezTo>
                      <a:pt x="90" y="566"/>
                      <a:pt x="0" y="405"/>
                      <a:pt x="19" y="317"/>
                    </a:cubicBezTo>
                    <a:cubicBezTo>
                      <a:pt x="38" y="229"/>
                      <a:pt x="129" y="132"/>
                      <a:pt x="216" y="86"/>
                    </a:cubicBezTo>
                    <a:cubicBezTo>
                      <a:pt x="303" y="40"/>
                      <a:pt x="462" y="0"/>
                      <a:pt x="543" y="40"/>
                    </a:cubicBezTo>
                    <a:cubicBezTo>
                      <a:pt x="624" y="80"/>
                      <a:pt x="668" y="268"/>
                      <a:pt x="701" y="328"/>
                    </a:cubicBezTo>
                  </a:path>
                </a:pathLst>
              </a:custGeom>
              <a:noFill/>
              <a:ln w="28440">
                <a:solidFill>
                  <a:srgbClr val="00b7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 flipV="1">
              <a:off x="3225960" y="4041360"/>
              <a:ext cx="480960" cy="468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5369040" y="4041360"/>
              <a:ext cx="480960" cy="468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35640" y="2921040"/>
              <a:ext cx="0" cy="36036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101600" y="3817440"/>
            <a:ext cx="3111480" cy="2106720"/>
            <a:chOff x="1101600" y="3817440"/>
            <a:chExt cx="3111480" cy="2106720"/>
          </a:xfrm>
        </p:grpSpPr>
        <p:sp>
          <p:nvSpPr>
            <p:cNvPr id="758" name=""/>
            <p:cNvSpPr/>
            <p:nvPr/>
          </p:nvSpPr>
          <p:spPr>
            <a:xfrm>
              <a:off x="3917880" y="3817800"/>
              <a:ext cx="295200" cy="295560"/>
            </a:xfrm>
            <a:prstGeom prst="rect">
              <a:avLst/>
            </a:prstGeom>
            <a:noFill/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1101600" y="3817440"/>
              <a:ext cx="3111480" cy="2106720"/>
              <a:chOff x="1101600" y="3817440"/>
              <a:chExt cx="3111480" cy="2106720"/>
            </a:xfrm>
          </p:grpSpPr>
          <p:sp>
            <p:nvSpPr>
              <p:cNvPr id="760" name=""/>
              <p:cNvSpPr/>
              <p:nvPr/>
            </p:nvSpPr>
            <p:spPr>
              <a:xfrm flipV="1">
                <a:off x="1101600" y="3817440"/>
                <a:ext cx="2816280" cy="690840"/>
              </a:xfrm>
              <a:prstGeom prst="line">
                <a:avLst/>
              </a:prstGeom>
              <a:ln cap="rnd" w="28440">
                <a:solidFill>
                  <a:srgbClr val="fff527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1101600" y="4113000"/>
                <a:ext cx="2853000" cy="1811160"/>
              </a:xfrm>
              <a:prstGeom prst="line">
                <a:avLst/>
              </a:prstGeom>
              <a:ln cap="rnd" w="28440">
                <a:solidFill>
                  <a:srgbClr val="fff527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2706840" y="3817440"/>
                <a:ext cx="1506240" cy="690840"/>
              </a:xfrm>
              <a:prstGeom prst="line">
                <a:avLst/>
              </a:prstGeom>
              <a:ln cap="rnd" w="28440">
                <a:solidFill>
                  <a:srgbClr val="fff527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2706840" y="4113000"/>
                <a:ext cx="1506240" cy="1811160"/>
              </a:xfrm>
              <a:prstGeom prst="line">
                <a:avLst/>
              </a:prstGeom>
              <a:ln cap="rnd" w="28440">
                <a:solidFill>
                  <a:srgbClr val="fff527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1101600" y="4508640"/>
            <a:ext cx="1605240" cy="1415880"/>
            <a:chOff x="1101600" y="4508640"/>
            <a:chExt cx="1605240" cy="1415880"/>
          </a:xfrm>
        </p:grpSpPr>
        <p:grpSp>
          <p:nvGrpSpPr>
            <p:cNvPr id="765" name=""/>
            <p:cNvGrpSpPr/>
            <p:nvPr/>
          </p:nvGrpSpPr>
          <p:grpSpPr>
            <a:xfrm>
              <a:off x="1101600" y="4508640"/>
              <a:ext cx="1605240" cy="1415880"/>
              <a:chOff x="1101600" y="4508640"/>
              <a:chExt cx="1605240" cy="1415880"/>
            </a:xfrm>
          </p:grpSpPr>
          <p:sp>
            <p:nvSpPr>
              <p:cNvPr id="766" name=""/>
              <p:cNvSpPr/>
              <p:nvPr/>
            </p:nvSpPr>
            <p:spPr>
              <a:xfrm>
                <a:off x="1101600" y="4508640"/>
                <a:ext cx="1605240" cy="14158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f5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1203480" y="4633920"/>
                <a:ext cx="1217520" cy="1182600"/>
                <a:chOff x="1203480" y="4633920"/>
                <a:chExt cx="1217520" cy="11826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1641600" y="5092560"/>
                  <a:ext cx="125280" cy="125640"/>
                </a:xfrm>
                <a:prstGeom prst="diamond">
                  <a:avLst/>
                </a:prstGeom>
                <a:solidFill>
                  <a:srgbClr val="fff5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954080" y="4859280"/>
                  <a:ext cx="125640" cy="125640"/>
                </a:xfrm>
                <a:prstGeom prst="diamond">
                  <a:avLst/>
                </a:prstGeom>
                <a:solidFill>
                  <a:srgbClr val="fff5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295360" y="4633920"/>
                  <a:ext cx="125640" cy="125280"/>
                </a:xfrm>
                <a:prstGeom prst="diamond">
                  <a:avLst/>
                </a:prstGeom>
                <a:solidFill>
                  <a:srgbClr val="fff5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73040" y="5315040"/>
                  <a:ext cx="125640" cy="125280"/>
                </a:xfrm>
                <a:prstGeom prst="diamond">
                  <a:avLst/>
                </a:prstGeom>
                <a:solidFill>
                  <a:srgbClr val="fff5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203480" y="5691240"/>
                  <a:ext cx="125280" cy="125280"/>
                </a:xfrm>
                <a:prstGeom prst="diamond">
                  <a:avLst/>
                </a:prstGeom>
                <a:solidFill>
                  <a:srgbClr val="fff5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1292400" y="4605480"/>
                <a:ext cx="825480" cy="1172880"/>
                <a:chOff x="1292400" y="4605480"/>
                <a:chExt cx="825480" cy="117288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1515960" y="4910040"/>
                  <a:ext cx="125640" cy="125640"/>
                </a:xfrm>
                <a:prstGeom prst="diamond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749600" y="4749840"/>
                  <a:ext cx="125280" cy="125280"/>
                </a:xfrm>
                <a:prstGeom prst="diamond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992240" y="4605480"/>
                  <a:ext cx="125640" cy="125280"/>
                </a:xfrm>
                <a:prstGeom prst="diamond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46040" y="5116680"/>
                  <a:ext cx="125640" cy="125280"/>
                </a:xfrm>
                <a:prstGeom prst="diamond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292400" y="5384880"/>
                  <a:ext cx="125280" cy="125280"/>
                </a:xfrm>
                <a:prstGeom prst="diamond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292400" y="5653080"/>
                  <a:ext cx="125280" cy="125280"/>
                </a:xfrm>
                <a:prstGeom prst="diamond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0" name=""/>
            <p:cNvSpPr/>
            <p:nvPr/>
          </p:nvSpPr>
          <p:spPr>
            <a:xfrm>
              <a:off x="1219320" y="4518000"/>
              <a:ext cx="1452600" cy="1354320"/>
            </a:xfrm>
            <a:custGeom>
              <a:avLst/>
              <a:gdLst/>
              <a:ahLst/>
              <a:rect l="l" t="t" r="r" b="b"/>
              <a:pathLst>
                <a:path w="915" h="853">
                  <a:moveTo>
                    <a:pt x="0" y="853"/>
                  </a:moveTo>
                  <a:cubicBezTo>
                    <a:pt x="28" y="794"/>
                    <a:pt x="23" y="639"/>
                    <a:pt x="175" y="497"/>
                  </a:cubicBezTo>
                  <a:cubicBezTo>
                    <a:pt x="327" y="355"/>
                    <a:pt x="761" y="104"/>
                    <a:pt x="915" y="0"/>
                  </a:cubicBezTo>
                </a:path>
              </a:pathLst>
            </a:custGeom>
            <a:noFill/>
            <a:ln w="28440">
              <a:solidFill>
                <a:srgbClr val="fff5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285920" y="4527720"/>
              <a:ext cx="1000080" cy="1361880"/>
            </a:xfrm>
            <a:custGeom>
              <a:avLst/>
              <a:gdLst/>
              <a:ahLst/>
              <a:rect l="l" t="t" r="r" b="b"/>
              <a:pathLst>
                <a:path w="630" h="858">
                  <a:moveTo>
                    <a:pt x="37" y="858"/>
                  </a:moveTo>
                  <a:cubicBezTo>
                    <a:pt x="47" y="777"/>
                    <a:pt x="0" y="515"/>
                    <a:pt x="99" y="372"/>
                  </a:cubicBezTo>
                  <a:cubicBezTo>
                    <a:pt x="198" y="229"/>
                    <a:pt x="520" y="77"/>
                    <a:pt x="630" y="0"/>
                  </a:cubicBezTo>
                </a:path>
              </a:pathLst>
            </a:custGeom>
            <a:noFill/>
            <a:ln w="2844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1670040" y="4573440"/>
            <a:ext cx="685800" cy="685800"/>
            <a:chOff x="1670040" y="4573440"/>
            <a:chExt cx="685800" cy="685800"/>
          </a:xfrm>
        </p:grpSpPr>
        <p:sp>
          <p:nvSpPr>
            <p:cNvPr id="783" name=""/>
            <p:cNvSpPr/>
            <p:nvPr/>
          </p:nvSpPr>
          <p:spPr>
            <a:xfrm>
              <a:off x="1670040" y="4573440"/>
              <a:ext cx="685800" cy="685800"/>
            </a:xfrm>
            <a:prstGeom prst="ellipse">
              <a:avLst/>
            </a:prstGeom>
            <a:noFill/>
            <a:ln w="2844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54080" y="4859280"/>
              <a:ext cx="125640" cy="125640"/>
            </a:xfrm>
            <a:prstGeom prst="diamond">
              <a:avLst/>
            </a:prstGeom>
            <a:solidFill>
              <a:srgbClr val="d93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801800" y="4659480"/>
            <a:ext cx="252360" cy="250560"/>
            <a:chOff x="1801800" y="4659480"/>
            <a:chExt cx="252360" cy="250560"/>
          </a:xfrm>
        </p:grpSpPr>
        <p:sp>
          <p:nvSpPr>
            <p:cNvPr id="786" name=""/>
            <p:cNvSpPr/>
            <p:nvPr/>
          </p:nvSpPr>
          <p:spPr>
            <a:xfrm flipV="1">
              <a:off x="2019240" y="4659480"/>
              <a:ext cx="34920" cy="25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>
              <a:off x="1801800" y="4807080"/>
              <a:ext cx="21744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2079720" y="4807080"/>
            <a:ext cx="6514920" cy="1516320"/>
            <a:chOff x="2079720" y="4807080"/>
            <a:chExt cx="6514920" cy="1516320"/>
          </a:xfrm>
        </p:grpSpPr>
        <p:sp>
          <p:nvSpPr>
            <p:cNvPr id="789" name=""/>
            <p:cNvSpPr/>
            <p:nvPr/>
          </p:nvSpPr>
          <p:spPr>
            <a:xfrm>
              <a:off x="3225960" y="4867920"/>
              <a:ext cx="5368680" cy="145548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89000" indent="-1890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Liste de coup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es points forment un couple potentiel si 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9000" indent="-18900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ls sont suffisamment proch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9000" indent="-18900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ls appartiennent à la même classe de courb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2079720" y="4807080"/>
              <a:ext cx="1146240" cy="507600"/>
              <a:chOff x="2079720" y="4807080"/>
              <a:chExt cx="1146240" cy="507600"/>
            </a:xfrm>
          </p:grpSpPr>
          <p:sp>
            <p:nvSpPr>
              <p:cNvPr id="791" name=""/>
              <p:cNvSpPr/>
              <p:nvPr/>
            </p:nvSpPr>
            <p:spPr>
              <a:xfrm>
                <a:off x="2106000" y="4807080"/>
                <a:ext cx="1119600" cy="362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079720" y="4889520"/>
                <a:ext cx="1146240" cy="4251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ariement de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233360" y="2323080"/>
            <a:ext cx="2502000" cy="509400"/>
          </a:xfrm>
          <a:prstGeom prst="roundRect">
            <a:avLst>
              <a:gd name="adj" fmla="val 16667"/>
            </a:avLst>
          </a:prstGeom>
          <a:solidFill>
            <a:srgbClr val="325a7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e de cou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932040" y="2855520"/>
            <a:ext cx="3105000" cy="2265120"/>
            <a:chOff x="932040" y="2855520"/>
            <a:chExt cx="3105000" cy="2265120"/>
          </a:xfrm>
        </p:grpSpPr>
        <p:cxnSp>
          <p:nvCxnSpPr>
            <p:cNvPr id="798" name=""/>
            <p:cNvCxnSpPr>
              <a:stCxn id="796" idx="2"/>
              <a:endCxn id="799" idx="0"/>
            </p:cNvCxnSpPr>
            <p:nvPr/>
          </p:nvCxnSpPr>
          <p:spPr>
            <a:xfrm>
              <a:off x="2484000" y="2855520"/>
              <a:ext cx="1080" cy="1089720"/>
            </a:xfrm>
            <a:prstGeom prst="straightConnector1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</p:cxnSp>
        <p:sp>
          <p:nvSpPr>
            <p:cNvPr id="799" name=""/>
            <p:cNvSpPr/>
            <p:nvPr/>
          </p:nvSpPr>
          <p:spPr>
            <a:xfrm>
              <a:off x="932040" y="3922920"/>
              <a:ext cx="3105000" cy="119772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89000" indent="-1890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G pou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9000" indent="-1890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pariement de poi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89000" indent="-1890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2359080" y="5204880"/>
            <a:ext cx="6127560" cy="922680"/>
            <a:chOff x="2359080" y="5204880"/>
            <a:chExt cx="6127560" cy="922680"/>
          </a:xfrm>
        </p:grpSpPr>
        <p:sp>
          <p:nvSpPr>
            <p:cNvPr id="801" name=""/>
            <p:cNvSpPr/>
            <p:nvPr/>
          </p:nvSpPr>
          <p:spPr>
            <a:xfrm>
              <a:off x="4761000" y="5212800"/>
              <a:ext cx="3725640" cy="91476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pulation génétique final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ples potenti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2359080" y="5204520"/>
              <a:ext cx="2179440" cy="755640"/>
            </a:xfrm>
            <a:custGeom>
              <a:avLst/>
              <a:gdLst>
                <a:gd name="textAreaLeft" fmla="*/ 0 w 2179440"/>
                <a:gd name="textAreaRight" fmla="*/ 2179800 w 2179440"/>
                <a:gd name="textAreaTop" fmla="*/ -360 h 755640"/>
                <a:gd name="textAreaBottom" fmla="*/ 75564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441" stAng="10800000" swAng="5400000"/>
                  <a:lnTo>
                    <a:pt x="14552" y="4719"/>
                  </a:lnTo>
                  <a:lnTo>
                    <a:pt x="14552" y="0"/>
                  </a:lnTo>
                  <a:lnTo>
                    <a:pt x="21600" y="6079"/>
                  </a:lnTo>
                  <a:lnTo>
                    <a:pt x="14552" y="12158"/>
                  </a:lnTo>
                  <a:lnTo>
                    <a:pt x="14552" y="7439"/>
                  </a:lnTo>
                  <a:lnTo>
                    <a:pt x="12427" y="7439"/>
                  </a:lnTo>
                  <a:arcTo wR="9707" hR="4721" stAng="16200000" swAng="-5400000"/>
                  <a:lnTo>
                    <a:pt x="272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037040" y="4486680"/>
            <a:ext cx="4174920" cy="459720"/>
            <a:chOff x="4037040" y="4486680"/>
            <a:chExt cx="4174920" cy="459720"/>
          </a:xfrm>
        </p:grpSpPr>
        <p:sp>
          <p:nvSpPr>
            <p:cNvPr id="804" name=""/>
            <p:cNvSpPr/>
            <p:nvPr/>
          </p:nvSpPr>
          <p:spPr>
            <a:xfrm>
              <a:off x="4037040" y="4727520"/>
              <a:ext cx="847800" cy="0"/>
            </a:xfrm>
            <a:prstGeom prst="line">
              <a:avLst/>
            </a:prstGeom>
            <a:ln w="28440">
              <a:solidFill>
                <a:srgbClr val="325a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4884840" y="4486680"/>
              <a:ext cx="3327120" cy="459720"/>
              <a:chOff x="4884840" y="4486680"/>
              <a:chExt cx="3327120" cy="459720"/>
            </a:xfrm>
          </p:grpSpPr>
          <p:sp>
            <p:nvSpPr>
              <p:cNvPr id="806" name=""/>
              <p:cNvSpPr/>
              <p:nvPr/>
            </p:nvSpPr>
            <p:spPr>
              <a:xfrm>
                <a:off x="4884840" y="4486680"/>
                <a:ext cx="415800" cy="4597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300640" y="4486680"/>
                <a:ext cx="415800" cy="4597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716440" y="4486680"/>
                <a:ext cx="416160" cy="4597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132600" y="4486680"/>
                <a:ext cx="415800" cy="4597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48400" y="4486680"/>
                <a:ext cx="415800" cy="4597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64200" y="4486680"/>
                <a:ext cx="416160" cy="4597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380360" y="4486680"/>
                <a:ext cx="415800" cy="4597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796160" y="4486680"/>
                <a:ext cx="415800" cy="459720"/>
              </a:xfrm>
              <a:prstGeom prst="rect">
                <a:avLst/>
              </a:prstGeom>
              <a:solidFill>
                <a:srgbClr val="325a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4" name=""/>
          <p:cNvGrpSpPr/>
          <p:nvPr/>
        </p:nvGrpSpPr>
        <p:grpSpPr>
          <a:xfrm>
            <a:off x="5019840" y="1758960"/>
            <a:ext cx="2919240" cy="860400"/>
            <a:chOff x="5019840" y="1758960"/>
            <a:chExt cx="2919240" cy="860400"/>
          </a:xfrm>
        </p:grpSpPr>
        <p:grpSp>
          <p:nvGrpSpPr>
            <p:cNvPr id="815" name=""/>
            <p:cNvGrpSpPr/>
            <p:nvPr/>
          </p:nvGrpSpPr>
          <p:grpSpPr>
            <a:xfrm>
              <a:off x="5019840" y="1758960"/>
              <a:ext cx="974520" cy="860400"/>
              <a:chOff x="5019840" y="1758960"/>
              <a:chExt cx="974520" cy="860400"/>
            </a:xfrm>
          </p:grpSpPr>
          <p:sp>
            <p:nvSpPr>
              <p:cNvPr id="816" name=""/>
              <p:cNvSpPr/>
              <p:nvPr/>
            </p:nvSpPr>
            <p:spPr>
              <a:xfrm>
                <a:off x="5019840" y="1758960"/>
                <a:ext cx="974520" cy="8604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f5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157720" y="1959480"/>
                <a:ext cx="711360" cy="540360"/>
              </a:xfrm>
              <a:custGeom>
                <a:avLst/>
                <a:gdLst/>
                <a:ahLst/>
                <a:rect l="l" t="t" r="r" b="b"/>
                <a:pathLst>
                  <a:path w="738" h="560">
                    <a:moveTo>
                      <a:pt x="66" y="560"/>
                    </a:moveTo>
                    <a:cubicBezTo>
                      <a:pt x="33" y="450"/>
                      <a:pt x="0" y="340"/>
                      <a:pt x="27" y="261"/>
                    </a:cubicBezTo>
                    <a:cubicBezTo>
                      <a:pt x="54" y="182"/>
                      <a:pt x="145" y="125"/>
                      <a:pt x="230" y="86"/>
                    </a:cubicBezTo>
                    <a:cubicBezTo>
                      <a:pt x="315" y="47"/>
                      <a:pt x="450" y="0"/>
                      <a:pt x="535" y="24"/>
                    </a:cubicBezTo>
                    <a:cubicBezTo>
                      <a:pt x="620" y="48"/>
                      <a:pt x="679" y="140"/>
                      <a:pt x="738" y="233"/>
                    </a:cubicBezTo>
                  </a:path>
                </a:pathLst>
              </a:custGeom>
              <a:noFill/>
              <a:ln w="28440">
                <a:solidFill>
                  <a:srgbClr val="fff5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6964200" y="1758960"/>
              <a:ext cx="974880" cy="860400"/>
              <a:chOff x="6964200" y="1758960"/>
              <a:chExt cx="974880" cy="860400"/>
            </a:xfrm>
          </p:grpSpPr>
          <p:sp>
            <p:nvSpPr>
              <p:cNvPr id="819" name=""/>
              <p:cNvSpPr/>
              <p:nvPr/>
            </p:nvSpPr>
            <p:spPr>
              <a:xfrm>
                <a:off x="6964200" y="1758960"/>
                <a:ext cx="974880" cy="8604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f5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09640" y="1905480"/>
                <a:ext cx="675720" cy="594360"/>
              </a:xfrm>
              <a:custGeom>
                <a:avLst/>
                <a:gdLst/>
                <a:ahLst/>
                <a:rect l="l" t="t" r="r" b="b"/>
                <a:pathLst>
                  <a:path w="701" h="616">
                    <a:moveTo>
                      <a:pt x="103" y="616"/>
                    </a:moveTo>
                    <a:cubicBezTo>
                      <a:pt x="90" y="566"/>
                      <a:pt x="0" y="405"/>
                      <a:pt x="19" y="317"/>
                    </a:cubicBezTo>
                    <a:cubicBezTo>
                      <a:pt x="38" y="229"/>
                      <a:pt x="129" y="132"/>
                      <a:pt x="216" y="86"/>
                    </a:cubicBezTo>
                    <a:cubicBezTo>
                      <a:pt x="303" y="40"/>
                      <a:pt x="462" y="0"/>
                      <a:pt x="543" y="40"/>
                    </a:cubicBezTo>
                    <a:cubicBezTo>
                      <a:pt x="624" y="80"/>
                      <a:pt x="668" y="268"/>
                      <a:pt x="701" y="328"/>
                    </a:cubicBezTo>
                  </a:path>
                </a:pathLst>
              </a:custGeom>
              <a:noFill/>
              <a:ln w="28440">
                <a:solidFill>
                  <a:srgbClr val="00b7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"/>
          <p:cNvGrpSpPr/>
          <p:nvPr/>
        </p:nvGrpSpPr>
        <p:grpSpPr>
          <a:xfrm>
            <a:off x="3749400" y="2577960"/>
            <a:ext cx="4302360" cy="1573200"/>
            <a:chOff x="3749400" y="2577960"/>
            <a:chExt cx="4302360" cy="1573200"/>
          </a:xfrm>
        </p:grpSpPr>
        <p:grpSp>
          <p:nvGrpSpPr>
            <p:cNvPr id="822" name=""/>
            <p:cNvGrpSpPr/>
            <p:nvPr/>
          </p:nvGrpSpPr>
          <p:grpSpPr>
            <a:xfrm>
              <a:off x="4884840" y="2841480"/>
              <a:ext cx="3166920" cy="1309680"/>
              <a:chOff x="4884840" y="2841480"/>
              <a:chExt cx="3166920" cy="1309680"/>
            </a:xfrm>
          </p:grpSpPr>
          <p:sp>
            <p:nvSpPr>
              <p:cNvPr id="823" name=""/>
              <p:cNvSpPr/>
              <p:nvPr/>
            </p:nvSpPr>
            <p:spPr>
              <a:xfrm>
                <a:off x="4884840" y="2841480"/>
                <a:ext cx="3166920" cy="1309680"/>
              </a:xfrm>
              <a:prstGeom prst="ellipse">
                <a:avLst/>
              </a:prstGeom>
              <a:solidFill>
                <a:srgbClr val="325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783400" y="3227400"/>
                <a:ext cx="210960" cy="174600"/>
              </a:xfrm>
              <a:prstGeom prst="diamond">
                <a:avLst/>
              </a:prstGeom>
              <a:solidFill>
                <a:srgbClr val="d93192"/>
              </a:solidFill>
              <a:ln w="93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921280" y="3606840"/>
                <a:ext cx="211320" cy="174600"/>
              </a:xfrm>
              <a:prstGeom prst="diamond">
                <a:avLst/>
              </a:prstGeom>
              <a:solidFill>
                <a:srgbClr val="d93192"/>
              </a:solidFill>
              <a:ln w="93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548400" y="3402000"/>
                <a:ext cx="211320" cy="174600"/>
              </a:xfrm>
              <a:prstGeom prst="diamond">
                <a:avLst/>
              </a:prstGeom>
              <a:solidFill>
                <a:srgbClr val="d93192"/>
              </a:solidFill>
              <a:ln w="93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753240" y="3770280"/>
                <a:ext cx="210960" cy="174600"/>
              </a:xfrm>
              <a:prstGeom prst="diamond">
                <a:avLst/>
              </a:prstGeom>
              <a:solidFill>
                <a:srgbClr val="d93192"/>
              </a:solidFill>
              <a:ln w="93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380360" y="3576600"/>
                <a:ext cx="210960" cy="174600"/>
              </a:xfrm>
              <a:prstGeom prst="diamond">
                <a:avLst/>
              </a:prstGeom>
              <a:solidFill>
                <a:srgbClr val="d93192"/>
              </a:solidFill>
              <a:ln w="93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169040" y="3227400"/>
                <a:ext cx="211320" cy="174600"/>
              </a:xfrm>
              <a:prstGeom prst="diamond">
                <a:avLst/>
              </a:prstGeom>
              <a:solidFill>
                <a:srgbClr val="d93192"/>
              </a:solidFill>
              <a:ln w="93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57720" y="3576600"/>
                <a:ext cx="211320" cy="174600"/>
              </a:xfrm>
              <a:prstGeom prst="diamond">
                <a:avLst/>
              </a:prstGeom>
              <a:solidFill>
                <a:srgbClr val="d93192"/>
              </a:solidFill>
              <a:ln w="93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369040" y="3079800"/>
                <a:ext cx="210960" cy="174600"/>
              </a:xfrm>
              <a:prstGeom prst="diamond">
                <a:avLst/>
              </a:prstGeom>
              <a:solidFill>
                <a:srgbClr val="d93192"/>
              </a:solidFill>
              <a:ln w="9360">
                <a:solidFill>
                  <a:srgbClr val="d93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832" name=""/>
            <p:cNvCxnSpPr>
              <a:stCxn id="796" idx="3"/>
              <a:endCxn id="823" idx="2"/>
            </p:cNvCxnSpPr>
            <p:nvPr/>
          </p:nvCxnSpPr>
          <p:spPr>
            <a:xfrm>
              <a:off x="3749400" y="2577960"/>
              <a:ext cx="1135800" cy="920160"/>
            </a:xfrm>
            <a:prstGeom prst="curvedConnector5">
              <a:avLst>
                <a:gd name="adj1" fmla="val 49365"/>
                <a:gd name="adj2" fmla="val 49980"/>
                <a:gd name="adj3" fmla="val 49365"/>
              </a:avLst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</p:cxnSp>
      </p:grpSp>
      <p:grpSp>
        <p:nvGrpSpPr>
          <p:cNvPr id="833" name=""/>
          <p:cNvGrpSpPr/>
          <p:nvPr/>
        </p:nvGrpSpPr>
        <p:grpSpPr>
          <a:xfrm>
            <a:off x="5474880" y="3254400"/>
            <a:ext cx="2011680" cy="1231920"/>
            <a:chOff x="5474880" y="3254400"/>
            <a:chExt cx="2011680" cy="1231920"/>
          </a:xfrm>
        </p:grpSpPr>
        <p:cxnSp>
          <p:nvCxnSpPr>
            <p:cNvPr id="834" name=""/>
            <p:cNvCxnSpPr>
              <a:stCxn id="810" idx="0"/>
              <a:endCxn id="826" idx="2"/>
            </p:cNvCxnSpPr>
            <p:nvPr/>
          </p:nvCxnSpPr>
          <p:spPr>
            <a:xfrm flipV="1" rot="16200000">
              <a:off x="6250320" y="3979800"/>
              <a:ext cx="910440" cy="102240"/>
            </a:xfrm>
            <a:prstGeom prst="curvedConnector5">
              <a:avLst>
                <a:gd name="adj1" fmla="val 49881"/>
                <a:gd name="adj2" fmla="val 49823"/>
                <a:gd name="adj3" fmla="val 49881"/>
              </a:avLst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</p:cxnSp>
        <p:cxnSp>
          <p:nvCxnSpPr>
            <p:cNvPr id="835" name=""/>
            <p:cNvCxnSpPr>
              <a:stCxn id="808" idx="0"/>
              <a:endCxn id="831" idx="2"/>
            </p:cNvCxnSpPr>
            <p:nvPr/>
          </p:nvCxnSpPr>
          <p:spPr>
            <a:xfrm flipV="1" rot="16200000">
              <a:off x="5083560" y="3645360"/>
              <a:ext cx="1232280" cy="450000"/>
            </a:xfrm>
            <a:prstGeom prst="curvedConnector5">
              <a:avLst>
                <a:gd name="adj1" fmla="val 50000"/>
                <a:gd name="adj2" fmla="val 49959"/>
                <a:gd name="adj3" fmla="val 50000"/>
              </a:avLst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</p:cxnSp>
        <p:cxnSp>
          <p:nvCxnSpPr>
            <p:cNvPr id="836" name=""/>
            <p:cNvCxnSpPr>
              <a:stCxn id="811" idx="0"/>
              <a:endCxn id="828" idx="2"/>
            </p:cNvCxnSpPr>
            <p:nvPr/>
          </p:nvCxnSpPr>
          <p:spPr>
            <a:xfrm flipH="1" flipV="1" rot="5400000">
              <a:off x="6961320" y="3961080"/>
              <a:ext cx="735840" cy="315000"/>
            </a:xfrm>
            <a:prstGeom prst="curvedConnector5">
              <a:avLst>
                <a:gd name="adj1" fmla="val 49877"/>
                <a:gd name="adj2" fmla="val 50000"/>
                <a:gd name="adj3" fmla="val 49877"/>
              </a:avLst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</p:cxnSp>
      </p:grpSp>
      <p:grpSp>
        <p:nvGrpSpPr>
          <p:cNvPr id="837" name=""/>
          <p:cNvGrpSpPr/>
          <p:nvPr/>
        </p:nvGrpSpPr>
        <p:grpSpPr>
          <a:xfrm>
            <a:off x="5608800" y="1954080"/>
            <a:ext cx="2030400" cy="1551240"/>
            <a:chOff x="5608800" y="1954080"/>
            <a:chExt cx="2030400" cy="1551240"/>
          </a:xfrm>
        </p:grpSpPr>
        <p:sp>
          <p:nvSpPr>
            <p:cNvPr id="838" name=""/>
            <p:cNvSpPr/>
            <p:nvPr/>
          </p:nvSpPr>
          <p:spPr>
            <a:xfrm>
              <a:off x="5608800" y="1981080"/>
              <a:ext cx="1069920" cy="1524240"/>
            </a:xfrm>
            <a:custGeom>
              <a:avLst/>
              <a:gdLst/>
              <a:ahLst/>
              <a:rect l="l" t="t" r="r" b="b"/>
              <a:pathLst>
                <a:path w="674" h="960">
                  <a:moveTo>
                    <a:pt x="635" y="960"/>
                  </a:moveTo>
                  <a:cubicBezTo>
                    <a:pt x="626" y="876"/>
                    <a:pt x="674" y="570"/>
                    <a:pt x="584" y="457"/>
                  </a:cubicBezTo>
                  <a:cubicBezTo>
                    <a:pt x="494" y="344"/>
                    <a:pt x="184" y="358"/>
                    <a:pt x="92" y="282"/>
                  </a:cubicBezTo>
                  <a:cubicBezTo>
                    <a:pt x="0" y="206"/>
                    <a:pt x="43" y="59"/>
                    <a:pt x="3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667560" y="1954080"/>
              <a:ext cx="971640" cy="1551240"/>
            </a:xfrm>
            <a:custGeom>
              <a:avLst/>
              <a:gdLst/>
              <a:ahLst/>
              <a:rect l="l" t="t" r="r" b="b"/>
              <a:pathLst>
                <a:path w="612" h="977">
                  <a:moveTo>
                    <a:pt x="13" y="977"/>
                  </a:moveTo>
                  <a:cubicBezTo>
                    <a:pt x="25" y="912"/>
                    <a:pt x="0" y="695"/>
                    <a:pt x="80" y="587"/>
                  </a:cubicBezTo>
                  <a:cubicBezTo>
                    <a:pt x="160" y="479"/>
                    <a:pt x="409" y="395"/>
                    <a:pt x="493" y="328"/>
                  </a:cubicBezTo>
                  <a:cubicBezTo>
                    <a:pt x="577" y="261"/>
                    <a:pt x="563" y="241"/>
                    <a:pt x="583" y="186"/>
                  </a:cubicBezTo>
                  <a:cubicBezTo>
                    <a:pt x="603" y="131"/>
                    <a:pt x="606" y="39"/>
                    <a:pt x="61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438120" y="5585040"/>
            <a:ext cx="3441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527"/>
                </a:solidFill>
                <a:latin typeface="Times New Roman"/>
              </a:rPr>
              <a:t>Échantillonnage stochastique robu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09120" y="133344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nement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527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t le nombre </a:t>
            </a:r>
            <a:r>
              <a:rPr b="0" i="1" lang="en-US" sz="2000" spc="-1" strike="noStrike">
                <a:solidFill>
                  <a:srgbClr val="fff527"/>
                </a:solidFill>
                <a:latin typeface="Arial"/>
              </a:rPr>
              <a:t>mini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 couples nécessaires au calcul des 24 coefficients de la transformation élast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c plus de couples, on peut toujours estimer ces coefficients au sens des moindres carrés (résolution d’un système surdéterminé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80480" y="4838040"/>
            <a:ext cx="1363320" cy="916920"/>
          </a:xfrm>
          <a:prstGeom prst="rect">
            <a:avLst/>
          </a:prstGeom>
          <a:solidFill>
            <a:srgbClr val="325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 cou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u meilleu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romos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74720" y="3553920"/>
            <a:ext cx="4579920" cy="914760"/>
          </a:xfrm>
          <a:prstGeom prst="roundRect">
            <a:avLst>
              <a:gd name="adj" fmla="val 16667"/>
            </a:avLst>
          </a:prstGeom>
          <a:solidFill>
            <a:srgbClr val="325a7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tion génétique fin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emble de couples potenti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187240" y="4011480"/>
            <a:ext cx="3534480" cy="1284840"/>
            <a:chOff x="5187240" y="4011480"/>
            <a:chExt cx="3534480" cy="1284840"/>
          </a:xfrm>
        </p:grpSpPr>
        <p:cxnSp>
          <p:nvCxnSpPr>
            <p:cNvPr id="847" name=""/>
            <p:cNvCxnSpPr>
              <a:stCxn id="845" idx="3"/>
              <a:endCxn id="848" idx="6"/>
            </p:cNvCxnSpPr>
            <p:nvPr/>
          </p:nvCxnSpPr>
          <p:spPr>
            <a:xfrm flipH="1">
              <a:off x="5187240" y="4011480"/>
              <a:ext cx="181800" cy="1285200"/>
            </a:xfrm>
            <a:prstGeom prst="curvedConnector5">
              <a:avLst>
                <a:gd name="adj1" fmla="val -405158"/>
                <a:gd name="adj2" fmla="val 49985"/>
                <a:gd name="adj3" fmla="val -405158"/>
              </a:avLst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</p:cxnSp>
        <p:sp>
          <p:nvSpPr>
            <p:cNvPr id="849" name=""/>
            <p:cNvSpPr/>
            <p:nvPr/>
          </p:nvSpPr>
          <p:spPr>
            <a:xfrm>
              <a:off x="6134040" y="4118040"/>
              <a:ext cx="25876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djonction nouveau couple 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5187960" y="5295960"/>
            <a:ext cx="3533760" cy="854280"/>
            <a:chOff x="5187960" y="5295960"/>
            <a:chExt cx="3533760" cy="854280"/>
          </a:xfrm>
        </p:grpSpPr>
        <p:cxnSp>
          <p:nvCxnSpPr>
            <p:cNvPr id="851" name=""/>
            <p:cNvCxnSpPr>
              <a:stCxn id="848" idx="6"/>
            </p:cNvCxnSpPr>
            <p:nvPr/>
          </p:nvCxnSpPr>
          <p:spPr>
            <a:xfrm>
              <a:off x="5187960" y="5295960"/>
              <a:ext cx="621000" cy="854640"/>
            </a:xfrm>
            <a:prstGeom prst="curvedConnector2">
              <a:avLst/>
            </a:prstGeom>
            <a:ln w="28440">
              <a:solidFill>
                <a:srgbClr val="d93192"/>
              </a:solidFill>
              <a:miter/>
              <a:tailEnd len="med" type="triangle" w="med"/>
            </a:ln>
          </p:spPr>
        </p:cxnSp>
        <p:sp>
          <p:nvSpPr>
            <p:cNvPr id="852" name=""/>
            <p:cNvSpPr/>
            <p:nvPr/>
          </p:nvSpPr>
          <p:spPr>
            <a:xfrm>
              <a:off x="6134040" y="5319720"/>
              <a:ext cx="258768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Élimination d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ples superflus 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2149200" y="4878360"/>
            <a:ext cx="3038760" cy="835200"/>
            <a:chOff x="2149200" y="4878360"/>
            <a:chExt cx="3038760" cy="835200"/>
          </a:xfrm>
        </p:grpSpPr>
        <p:grpSp>
          <p:nvGrpSpPr>
            <p:cNvPr id="854" name=""/>
            <p:cNvGrpSpPr/>
            <p:nvPr/>
          </p:nvGrpSpPr>
          <p:grpSpPr>
            <a:xfrm>
              <a:off x="2149200" y="4878360"/>
              <a:ext cx="3038760" cy="835200"/>
              <a:chOff x="2149200" y="4878360"/>
              <a:chExt cx="3038760" cy="835200"/>
            </a:xfrm>
          </p:grpSpPr>
          <p:sp>
            <p:nvSpPr>
              <p:cNvPr id="848" name=""/>
              <p:cNvSpPr/>
              <p:nvPr/>
            </p:nvSpPr>
            <p:spPr>
              <a:xfrm>
                <a:off x="2579760" y="4878360"/>
                <a:ext cx="2608200" cy="835200"/>
              </a:xfrm>
              <a:prstGeom prst="ellipse">
                <a:avLst/>
              </a:prstGeom>
              <a:solidFill>
                <a:srgbClr val="325a7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uples retenu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55" name=""/>
              <p:cNvCxnSpPr>
                <a:stCxn id="844" idx="3"/>
                <a:endCxn id="848" idx="2"/>
              </p:cNvCxnSpPr>
              <p:nvPr/>
            </p:nvCxnSpPr>
            <p:spPr>
              <a:xfrm flipV="1">
                <a:off x="2149200" y="5295600"/>
                <a:ext cx="430920" cy="2160"/>
              </a:xfrm>
              <a:prstGeom prst="straightConnector1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</p:cxnSp>
        </p:grp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3308400" y="5238720"/>
                  <a:ext cx="86184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≥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503280" y="5261400"/>
            <a:ext cx="8107200" cy="10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9000" indent="-1890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ace de recherche inclus dans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épartition contrôlée de la population génétique (hach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 locale et recombinaison uni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Algorithme robust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ésumé de l’algorith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87040" y="4157280"/>
            <a:ext cx="1678320" cy="914760"/>
          </a:xfrm>
          <a:prstGeom prst="roundRect">
            <a:avLst>
              <a:gd name="adj" fmla="val 16667"/>
            </a:avLst>
          </a:prstGeom>
          <a:solidFill>
            <a:srgbClr val="325a7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fi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4684680" y="3402360"/>
            <a:ext cx="2445480" cy="747360"/>
            <a:chOff x="4684680" y="3402360"/>
            <a:chExt cx="2445480" cy="747360"/>
          </a:xfrm>
        </p:grpSpPr>
        <p:sp>
          <p:nvSpPr>
            <p:cNvPr id="863" name=""/>
            <p:cNvSpPr/>
            <p:nvPr/>
          </p:nvSpPr>
          <p:spPr>
            <a:xfrm>
              <a:off x="5334120" y="3860640"/>
              <a:ext cx="1295280" cy="289080"/>
            </a:xfrm>
            <a:custGeom>
              <a:avLst/>
              <a:gdLst>
                <a:gd name="textAreaLeft" fmla="*/ 226440 w 1295280"/>
                <a:gd name="textAreaRight" fmla="*/ 939240 w 1295280"/>
                <a:gd name="textAreaTop" fmla="*/ 38520 h 289080"/>
                <a:gd name="textAreaBottom" fmla="*/ 25056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684680" y="3402360"/>
              <a:ext cx="24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527"/>
                  </a:solidFill>
                  <a:latin typeface="Times New Roman"/>
                </a:rPr>
                <a:t>Couples potenti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942840" y="1828800"/>
            <a:ext cx="2793960" cy="930240"/>
          </a:xfrm>
          <a:prstGeom prst="roundRect">
            <a:avLst>
              <a:gd name="adj" fmla="val 16667"/>
            </a:avLst>
          </a:prstGeom>
          <a:solidFill>
            <a:srgbClr val="87a8d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s num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 cartes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951120" y="2819520"/>
            <a:ext cx="2077560" cy="2252520"/>
            <a:chOff x="951120" y="2819520"/>
            <a:chExt cx="2077560" cy="2252520"/>
          </a:xfrm>
        </p:grpSpPr>
        <p:sp>
          <p:nvSpPr>
            <p:cNvPr id="867" name=""/>
            <p:cNvSpPr/>
            <p:nvPr/>
          </p:nvSpPr>
          <p:spPr>
            <a:xfrm>
              <a:off x="951120" y="4157280"/>
              <a:ext cx="2077560" cy="91476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G  pou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calage rigi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390680" y="2819520"/>
              <a:ext cx="366840" cy="1268280"/>
            </a:xfrm>
            <a:prstGeom prst="downArrow">
              <a:avLst>
                <a:gd name="adj1" fmla="val 50000"/>
                <a:gd name="adj2" fmla="val 864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3550320" y="4157280"/>
            <a:ext cx="2135520" cy="914760"/>
          </a:xfrm>
          <a:prstGeom prst="roundRect">
            <a:avLst>
              <a:gd name="adj" fmla="val 16667"/>
            </a:avLst>
          </a:prstGeom>
          <a:solidFill>
            <a:srgbClr val="325a7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G  p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oint-mat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540240" y="5265360"/>
            <a:ext cx="5059080" cy="65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9000" indent="-1890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pace de recherche index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 et recombinaison unifor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3801240" y="1837080"/>
            <a:ext cx="1549440" cy="1287000"/>
            <a:chOff x="3801240" y="1837080"/>
            <a:chExt cx="1549440" cy="1287000"/>
          </a:xfrm>
        </p:grpSpPr>
        <p:sp>
          <p:nvSpPr>
            <p:cNvPr id="872" name=""/>
            <p:cNvSpPr/>
            <p:nvPr/>
          </p:nvSpPr>
          <p:spPr>
            <a:xfrm>
              <a:off x="3801240" y="1837080"/>
              <a:ext cx="1549440" cy="914040"/>
            </a:xfrm>
            <a:prstGeom prst="roundRect">
              <a:avLst>
                <a:gd name="adj" fmla="val 16667"/>
              </a:avLst>
            </a:prstGeom>
            <a:solidFill>
              <a:srgbClr val="87a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lasses 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rbu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62520" y="2819520"/>
              <a:ext cx="366480" cy="304560"/>
            </a:xfrm>
            <a:prstGeom prst="downArrow">
              <a:avLst>
                <a:gd name="adj1" fmla="val 49787"/>
                <a:gd name="adj2" fmla="val 42708"/>
              </a:avLst>
            </a:prstGeom>
            <a:solidFill>
              <a:srgbClr val="87a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2140560" y="2819520"/>
            <a:ext cx="2290680" cy="1285560"/>
            <a:chOff x="2140560" y="2819520"/>
            <a:chExt cx="2290680" cy="1285560"/>
          </a:xfrm>
        </p:grpSpPr>
        <p:sp>
          <p:nvSpPr>
            <p:cNvPr id="875" name=""/>
            <p:cNvSpPr/>
            <p:nvPr/>
          </p:nvSpPr>
          <p:spPr>
            <a:xfrm>
              <a:off x="2140560" y="3177360"/>
              <a:ext cx="2290680" cy="50940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éation coup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38280" y="2819520"/>
              <a:ext cx="366840" cy="304560"/>
            </a:xfrm>
            <a:prstGeom prst="downArrow">
              <a:avLst>
                <a:gd name="adj1" fmla="val 49787"/>
                <a:gd name="adj2" fmla="val 42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2438280" y="3723480"/>
              <a:ext cx="366840" cy="381240"/>
            </a:xfrm>
            <a:prstGeom prst="downArrow">
              <a:avLst>
                <a:gd name="adj1" fmla="val 49787"/>
                <a:gd name="adj2" fmla="val 44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3962520" y="3733920"/>
            <a:ext cx="366480" cy="380880"/>
          </a:xfrm>
          <a:prstGeom prst="downArrow">
            <a:avLst>
              <a:gd name="adj1" fmla="val 49787"/>
              <a:gd name="adj2" fmla="val 443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9608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Sommair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3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Objectifs et approche utilis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1. Modèles de dé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2. Optimisation géné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3. Algorithme robu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Résul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s init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ion rig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age élastique sans affin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ésultat 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sation de la base de données RR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Conclusion et persp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s initiales (Laboratoire TI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789120" y="2214720"/>
          <a:ext cx="7369200" cy="392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2214720"/>
                    <a:ext cx="7369200" cy="3925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120" y="1299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s init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équation initiale des images (TIM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IRMuTDM" descr=""/>
          <p:cNvPicPr/>
          <p:nvPr/>
        </p:nvPicPr>
        <p:blipFill>
          <a:blip r:embed="rId1"/>
          <a:stretch/>
        </p:blipFill>
        <p:spPr>
          <a:xfrm>
            <a:off x="668160" y="2743200"/>
            <a:ext cx="2479680" cy="1701720"/>
          </a:xfrm>
          <a:prstGeom prst="rect">
            <a:avLst/>
          </a:prstGeom>
          <a:ln w="0">
            <a:noFill/>
          </a:ln>
        </p:spPr>
      </p:pic>
      <p:pic>
        <p:nvPicPr>
          <p:cNvPr id="891" name="IRMiTDM" descr=""/>
          <p:cNvPicPr/>
          <p:nvPr/>
        </p:nvPicPr>
        <p:blipFill>
          <a:blip r:embed="rId2"/>
          <a:stretch/>
        </p:blipFill>
        <p:spPr>
          <a:xfrm>
            <a:off x="5832360" y="2743200"/>
            <a:ext cx="2479680" cy="170172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6094440" y="451692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DM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3219480" y="274320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912960" y="45169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DM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Introduction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e en correspondance d’information 3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èle global et élas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érentes modali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e rap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e robu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ion rig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038480" y="2133720"/>
            <a:ext cx="1936800" cy="1875960"/>
            <a:chOff x="4038480" y="2133720"/>
            <a:chExt cx="1936800" cy="1875960"/>
          </a:xfrm>
        </p:grpSpPr>
        <p:sp>
          <p:nvSpPr>
            <p:cNvPr id="899" name=""/>
            <p:cNvSpPr/>
            <p:nvPr/>
          </p:nvSpPr>
          <p:spPr>
            <a:xfrm>
              <a:off x="4038480" y="3610800"/>
              <a:ext cx="193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DM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 I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0" name="RIG_TDM_315_u" descr=""/>
            <p:cNvPicPr/>
            <p:nvPr/>
          </p:nvPicPr>
          <p:blipFill>
            <a:blip r:embed="rId1"/>
            <a:stretch/>
          </p:blipFill>
          <p:spPr>
            <a:xfrm>
              <a:off x="4052880" y="2133720"/>
              <a:ext cx="1905120" cy="14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6216480" y="2133720"/>
            <a:ext cx="1936800" cy="1875960"/>
            <a:chOff x="6216480" y="2133720"/>
            <a:chExt cx="1936800" cy="1875960"/>
          </a:xfrm>
        </p:grpSpPr>
        <p:sp>
          <p:nvSpPr>
            <p:cNvPr id="902" name=""/>
            <p:cNvSpPr/>
            <p:nvPr/>
          </p:nvSpPr>
          <p:spPr>
            <a:xfrm>
              <a:off x="6216480" y="3610800"/>
              <a:ext cx="193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DM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 I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3" name="RIG_TDM_315_i" descr=""/>
            <p:cNvPicPr/>
            <p:nvPr/>
          </p:nvPicPr>
          <p:blipFill>
            <a:blip r:embed="rId2"/>
            <a:stretch/>
          </p:blipFill>
          <p:spPr>
            <a:xfrm>
              <a:off x="6230880" y="2133720"/>
              <a:ext cx="1904760" cy="141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6172200" y="4267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905" name="coupe_rig+tdm1.030" descr=""/>
          <p:cNvPicPr/>
          <p:nvPr/>
        </p:nvPicPr>
        <p:blipFill>
          <a:blip r:embed="rId4"/>
          <a:stretch/>
        </p:blipFill>
        <p:spPr>
          <a:xfrm>
            <a:off x="4038480" y="42670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609480" y="2257560"/>
            <a:ext cx="34164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500 Chromoso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100 itérations génét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pm=1%, pc=80%, n=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Tps moyen exécution : 16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Performance 74,9% (±3,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Distance médiane : 1,3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6172200" y="4267080"/>
            <a:ext cx="1951200" cy="1951200"/>
          </a:xfrm>
          <a:prstGeom prst="rect">
            <a:avLst/>
          </a:prstGeom>
          <a:ln w="0">
            <a:noFill/>
          </a:ln>
        </p:spPr>
      </p:pic>
      <p:pic>
        <p:nvPicPr>
          <p:cNvPr id="908" name="coupe_ela+tdm1.030" descr=""/>
          <p:cNvPicPr/>
          <p:nvPr/>
        </p:nvPicPr>
        <p:blipFill>
          <a:blip r:embed="rId2"/>
          <a:stretch/>
        </p:blipFill>
        <p:spPr>
          <a:xfrm>
            <a:off x="4038480" y="4267080"/>
            <a:ext cx="1949400" cy="1949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age élastique sans affi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4038480" y="2133720"/>
            <a:ext cx="1936800" cy="1875960"/>
            <a:chOff x="4038480" y="2133720"/>
            <a:chExt cx="1936800" cy="1875960"/>
          </a:xfrm>
        </p:grpSpPr>
        <p:pic>
          <p:nvPicPr>
            <p:cNvPr id="913" name="ELA_TDM_315_u" descr=""/>
            <p:cNvPicPr/>
            <p:nvPr/>
          </p:nvPicPr>
          <p:blipFill>
            <a:blip r:embed="rId3"/>
            <a:stretch/>
          </p:blipFill>
          <p:spPr>
            <a:xfrm>
              <a:off x="4038480" y="2133720"/>
              <a:ext cx="1828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4038480" y="3610800"/>
              <a:ext cx="193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DM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 I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6216480" y="2133720"/>
            <a:ext cx="1936800" cy="1875960"/>
            <a:chOff x="6216480" y="2133720"/>
            <a:chExt cx="1936800" cy="1875960"/>
          </a:xfrm>
        </p:grpSpPr>
        <p:pic>
          <p:nvPicPr>
            <p:cNvPr id="916" name="ELA_TDM_315_i" descr=""/>
            <p:cNvPicPr/>
            <p:nvPr/>
          </p:nvPicPr>
          <p:blipFill>
            <a:blip r:embed="rId4"/>
            <a:stretch/>
          </p:blipFill>
          <p:spPr>
            <a:xfrm>
              <a:off x="6248520" y="2133720"/>
              <a:ext cx="190476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6216480" y="3610800"/>
              <a:ext cx="193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DM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 I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457200" y="2025720"/>
            <a:ext cx="35686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500 Chromoso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100 itérations génét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pm=1%, pc=80%, n=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3 classes de courb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50 000 couples créés (46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Tps exécution AG: 48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Performance 79,1% (±2,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4038480" y="1675440"/>
            <a:ext cx="193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D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I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0" name="ELA2_TDM_315_u" descr=""/>
          <p:cNvPicPr/>
          <p:nvPr/>
        </p:nvPicPr>
        <p:blipFill>
          <a:blip r:embed="rId1"/>
          <a:stretch/>
        </p:blipFill>
        <p:spPr>
          <a:xfrm>
            <a:off x="4038480" y="2112840"/>
            <a:ext cx="1828800" cy="134640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ésultat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4" name="ELA2_TDM_315_i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1904760" cy="139068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6216480" y="1675440"/>
            <a:ext cx="193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D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I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7200" y="2353320"/>
            <a:ext cx="3505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9000" indent="-189000">
              <a:spcBef>
                <a:spcPts val="1125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Segmentation &lt; 2mn / </a:t>
            </a:r>
            <a:r>
              <a:rPr b="1" lang="en-US" sz="1800" spc="-1" strike="noStrike">
                <a:solidFill>
                  <a:srgbClr val="fff527"/>
                </a:solidFill>
                <a:latin typeface="Times New Roman"/>
              </a:rPr>
              <a:t>volu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Recalage rigide : 16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Création couples : 46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Recalage élastique : 48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Affinement local : 1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spcBef>
                <a:spcPts val="1250"/>
              </a:spcBef>
              <a:buClr>
                <a:srgbClr val="fff5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527"/>
                </a:solidFill>
                <a:latin typeface="Times New Roman"/>
              </a:rPr>
              <a:t>Performance : 81,1% (±2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7" name="RIG_TDM_315_u" descr=""/>
          <p:cNvPicPr/>
          <p:nvPr/>
        </p:nvPicPr>
        <p:blipFill>
          <a:blip r:embed="rId3"/>
          <a:stretch/>
        </p:blipFill>
        <p:spPr>
          <a:xfrm>
            <a:off x="4043520" y="4876920"/>
            <a:ext cx="1814400" cy="1420560"/>
          </a:xfrm>
          <a:prstGeom prst="rect">
            <a:avLst/>
          </a:prstGeom>
          <a:ln w="0">
            <a:noFill/>
          </a:ln>
        </p:spPr>
      </p:pic>
      <p:pic>
        <p:nvPicPr>
          <p:cNvPr id="928" name="RIG_TDM_315_i" descr=""/>
          <p:cNvPicPr/>
          <p:nvPr/>
        </p:nvPicPr>
        <p:blipFill>
          <a:blip r:embed="rId4"/>
          <a:stretch/>
        </p:blipFill>
        <p:spPr>
          <a:xfrm>
            <a:off x="6248520" y="487692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929" name="ELA_TDM_315_u" descr=""/>
          <p:cNvPicPr/>
          <p:nvPr/>
        </p:nvPicPr>
        <p:blipFill>
          <a:blip r:embed="rId5"/>
          <a:stretch/>
        </p:blipFill>
        <p:spPr>
          <a:xfrm>
            <a:off x="4038480" y="3429000"/>
            <a:ext cx="1828800" cy="1457280"/>
          </a:xfrm>
          <a:prstGeom prst="rect">
            <a:avLst/>
          </a:prstGeom>
          <a:ln w="0">
            <a:noFill/>
          </a:ln>
        </p:spPr>
      </p:pic>
      <p:pic>
        <p:nvPicPr>
          <p:cNvPr id="930" name="ELA_TDM_315_i" descr=""/>
          <p:cNvPicPr/>
          <p:nvPr/>
        </p:nvPicPr>
        <p:blipFill>
          <a:blip r:embed="rId6"/>
          <a:stretch/>
        </p:blipFill>
        <p:spPr>
          <a:xfrm>
            <a:off x="6248520" y="3429000"/>
            <a:ext cx="1904760" cy="144792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5791320" y="2437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91320" y="3807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91320" y="5255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977240" y="2571480"/>
            <a:ext cx="9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27"/>
                </a:solidFill>
                <a:latin typeface="Times New Roman"/>
              </a:rPr>
              <a:t>81.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977240" y="4038120"/>
            <a:ext cx="9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27"/>
                </a:solidFill>
                <a:latin typeface="Times New Roman"/>
              </a:rPr>
              <a:t>79.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977240" y="5557320"/>
            <a:ext cx="9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527"/>
                </a:solidFill>
                <a:latin typeface="Times New Roman"/>
              </a:rPr>
              <a:t>74.9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943440" y="1684800"/>
            <a:ext cx="2055240" cy="4608000"/>
            <a:chOff x="3943440" y="1684800"/>
            <a:chExt cx="2055240" cy="4608000"/>
          </a:xfrm>
        </p:grpSpPr>
        <p:pic>
          <p:nvPicPr>
            <p:cNvPr id="938" name="tdm1_i_irmf_2" descr=""/>
            <p:cNvPicPr/>
            <p:nvPr/>
          </p:nvPicPr>
          <p:blipFill>
            <a:blip r:embed="rId7"/>
            <a:srcRect l="0" t="14172" r="0" b="14172"/>
            <a:stretch/>
          </p:blipFill>
          <p:spPr>
            <a:xfrm>
              <a:off x="3943440" y="2114280"/>
              <a:ext cx="194292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tdm1_i_irme_2" descr=""/>
            <p:cNvPicPr/>
            <p:nvPr/>
          </p:nvPicPr>
          <p:blipFill>
            <a:blip r:embed="rId8"/>
            <a:srcRect l="0" t="14172" r="0" b="14172"/>
            <a:stretch/>
          </p:blipFill>
          <p:spPr>
            <a:xfrm>
              <a:off x="3943440" y="3504960"/>
              <a:ext cx="1942920" cy="13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tdm1_i_irmr" descr=""/>
            <p:cNvPicPr/>
            <p:nvPr/>
          </p:nvPicPr>
          <p:blipFill>
            <a:blip r:embed="rId9"/>
            <a:srcRect l="0" t="14815" r="0" b="13920"/>
            <a:stretch/>
          </p:blipFill>
          <p:spPr>
            <a:xfrm>
              <a:off x="3943440" y="4902120"/>
              <a:ext cx="19508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/>
            <p:nvPr/>
          </p:nvSpPr>
          <p:spPr>
            <a:xfrm>
              <a:off x="4062240" y="1684800"/>
              <a:ext cx="193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DM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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 I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ésultat recalage élastique avec affi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609480" y="2100240"/>
            <a:ext cx="4073760" cy="4073400"/>
            <a:chOff x="609480" y="2100240"/>
            <a:chExt cx="4073760" cy="4073400"/>
          </a:xfrm>
        </p:grpSpPr>
        <p:pic>
          <p:nvPicPr>
            <p:cNvPr id="946" name="coupe_ela2+tdm1_OZ.030_d" descr=""/>
            <p:cNvPicPr/>
            <p:nvPr/>
          </p:nvPicPr>
          <p:blipFill>
            <a:blip r:embed="rId1"/>
            <a:stretch/>
          </p:blipFill>
          <p:spPr>
            <a:xfrm>
              <a:off x="609480" y="3821040"/>
              <a:ext cx="2352960" cy="23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coupe_ela2+tdm1_OY.100_d" descr=""/>
            <p:cNvPicPr/>
            <p:nvPr/>
          </p:nvPicPr>
          <p:blipFill>
            <a:blip r:embed="rId2"/>
            <a:stretch/>
          </p:blipFill>
          <p:spPr>
            <a:xfrm>
              <a:off x="609480" y="2100240"/>
              <a:ext cx="235296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coupe_ela2+tdm1_OX.150_f" descr=""/>
            <p:cNvPicPr/>
            <p:nvPr/>
          </p:nvPicPr>
          <p:blipFill>
            <a:blip r:embed="rId3"/>
            <a:stretch/>
          </p:blipFill>
          <p:spPr>
            <a:xfrm>
              <a:off x="3009960" y="3821040"/>
              <a:ext cx="1673280" cy="23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TDM_coupes_couleurs" descr=""/>
            <p:cNvPicPr/>
            <p:nvPr/>
          </p:nvPicPr>
          <p:blipFill>
            <a:blip r:embed="rId4"/>
            <a:stretch/>
          </p:blipFill>
          <p:spPr>
            <a:xfrm>
              <a:off x="3009960" y="2100240"/>
              <a:ext cx="1673280" cy="16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0" name="" descr=""/>
          <p:cNvPicPr/>
          <p:nvPr/>
        </p:nvPicPr>
        <p:blipFill>
          <a:blip r:embed="rId5"/>
          <a:stretch/>
        </p:blipFill>
        <p:spPr>
          <a:xfrm>
            <a:off x="4849920" y="2313000"/>
            <a:ext cx="36478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sation de la base de données (RRE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1336680" y="1884960"/>
            <a:ext cx="6607080" cy="2567880"/>
            <a:chOff x="1336680" y="1884960"/>
            <a:chExt cx="6607080" cy="2567880"/>
          </a:xfrm>
        </p:grpSpPr>
        <p:pic>
          <p:nvPicPr>
            <p:cNvPr id="955" name="all_tdm" descr=""/>
            <p:cNvPicPr/>
            <p:nvPr/>
          </p:nvPicPr>
          <p:blipFill>
            <a:blip r:embed="rId1"/>
            <a:stretch/>
          </p:blipFill>
          <p:spPr>
            <a:xfrm>
              <a:off x="1336680" y="1886040"/>
              <a:ext cx="4222800" cy="25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5559480" y="188496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 patients TD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576440" y="3741840"/>
            <a:ext cx="6607080" cy="2568600"/>
            <a:chOff x="1576440" y="3741840"/>
            <a:chExt cx="6607080" cy="2568600"/>
          </a:xfrm>
        </p:grpSpPr>
        <p:pic>
          <p:nvPicPr>
            <p:cNvPr id="958" name="all_irm" descr=""/>
            <p:cNvPicPr/>
            <p:nvPr/>
          </p:nvPicPr>
          <p:blipFill>
            <a:blip r:embed="rId2"/>
            <a:stretch/>
          </p:blipFill>
          <p:spPr>
            <a:xfrm>
              <a:off x="3960720" y="3741840"/>
              <a:ext cx="4222800" cy="25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1576440" y="5484960"/>
              <a:ext cx="238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 patients IRM (T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895320" y="2343240"/>
            <a:ext cx="7188120" cy="3000240"/>
            <a:chOff x="895320" y="2343240"/>
            <a:chExt cx="7188120" cy="3000240"/>
          </a:xfrm>
        </p:grpSpPr>
        <p:sp>
          <p:nvSpPr>
            <p:cNvPr id="961" name=""/>
            <p:cNvSpPr/>
            <p:nvPr/>
          </p:nvSpPr>
          <p:spPr>
            <a:xfrm>
              <a:off x="895320" y="2343240"/>
              <a:ext cx="7182000" cy="300024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2" name="coupe_ct_001.014" descr=""/>
            <p:cNvPicPr/>
            <p:nvPr/>
          </p:nvPicPr>
          <p:blipFill>
            <a:blip r:embed="rId3"/>
            <a:stretch/>
          </p:blipFill>
          <p:spPr>
            <a:xfrm>
              <a:off x="1025640" y="2560680"/>
              <a:ext cx="168264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coupe_mr_T1_001.014" descr=""/>
            <p:cNvPicPr/>
            <p:nvPr/>
          </p:nvPicPr>
          <p:blipFill>
            <a:blip r:embed="rId4"/>
            <a:stretch/>
          </p:blipFill>
          <p:spPr>
            <a:xfrm>
              <a:off x="2806560" y="2560680"/>
              <a:ext cx="164304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coupe_mr_T2_001.014" descr=""/>
            <p:cNvPicPr/>
            <p:nvPr/>
          </p:nvPicPr>
          <p:blipFill>
            <a:blip r:embed="rId5"/>
            <a:stretch/>
          </p:blipFill>
          <p:spPr>
            <a:xfrm>
              <a:off x="4548240" y="2560680"/>
              <a:ext cx="164304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coupe_mr_PD_001.014" descr=""/>
            <p:cNvPicPr/>
            <p:nvPr/>
          </p:nvPicPr>
          <p:blipFill>
            <a:blip r:embed="rId6"/>
            <a:stretch/>
          </p:blipFill>
          <p:spPr>
            <a:xfrm>
              <a:off x="6291360" y="2560680"/>
              <a:ext cx="1643040" cy="21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"/>
            <p:cNvSpPr/>
            <p:nvPr/>
          </p:nvSpPr>
          <p:spPr>
            <a:xfrm>
              <a:off x="1297080" y="4780800"/>
              <a:ext cx="11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D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84440" y="4780800"/>
              <a:ext cx="206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RM T1/T1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4780800"/>
              <a:ext cx="206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RM T2/T2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19920" y="4780800"/>
              <a:ext cx="20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RM DP/DP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"/>
          <p:cNvGrpSpPr/>
          <p:nvPr/>
        </p:nvGrpSpPr>
        <p:grpSpPr>
          <a:xfrm>
            <a:off x="581040" y="1774800"/>
            <a:ext cx="8001000" cy="4652280"/>
            <a:chOff x="581040" y="1774800"/>
            <a:chExt cx="8001000" cy="4652280"/>
          </a:xfrm>
        </p:grpSpPr>
        <p:graphicFrame>
          <p:nvGraphicFramePr>
            <p:cNvPr id="971" name=""/>
            <p:cNvGraphicFramePr/>
            <p:nvPr/>
          </p:nvGraphicFramePr>
          <p:xfrm>
            <a:off x="581040" y="1774800"/>
            <a:ext cx="8001000" cy="454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1040" y="1774800"/>
                      <a:ext cx="8001000" cy="4549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grpSp>
          <p:nvGrpSpPr>
            <p:cNvPr id="973" name=""/>
            <p:cNvGrpSpPr/>
            <p:nvPr/>
          </p:nvGrpSpPr>
          <p:grpSpPr>
            <a:xfrm>
              <a:off x="1663560" y="5940360"/>
              <a:ext cx="6388200" cy="486720"/>
              <a:chOff x="1663560" y="5940360"/>
              <a:chExt cx="6388200" cy="486720"/>
            </a:xfrm>
          </p:grpSpPr>
          <p:sp>
            <p:nvSpPr>
              <p:cNvPr id="974" name=""/>
              <p:cNvSpPr/>
              <p:nvPr/>
            </p:nvSpPr>
            <p:spPr>
              <a:xfrm>
                <a:off x="1663560" y="5967360"/>
                <a:ext cx="1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697120" y="5967360"/>
                <a:ext cx="1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730680" y="5967360"/>
                <a:ext cx="18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765680" y="5967360"/>
                <a:ext cx="1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99240" y="5967360"/>
                <a:ext cx="18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32440" y="5940360"/>
                <a:ext cx="1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867800" y="5940360"/>
                <a:ext cx="18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1" name=""/>
          <p:cNvSpPr/>
          <p:nvPr/>
        </p:nvSpPr>
        <p:spPr>
          <a:xfrm>
            <a:off x="507240" y="6453360"/>
            <a:ext cx="82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Résultats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26504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sation de la base de données (RRE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4392720" y="4921200"/>
            <a:ext cx="1039680" cy="56520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267160" y="4284720"/>
            <a:ext cx="532080" cy="63648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068960" y="2428920"/>
            <a:ext cx="171720" cy="107460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hode originale et efficace de recalage 3D élastique glob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ion d’un algorithme génétique en imagerie médicale (robustesse et rapidit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e génétique = Échantillonneur stochastique robu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ion sur une base de données d’images méd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Perspectives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élioration avec l’utilisation d’information interne (recalage surfacique + information inter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hode rapide devant permettre le traitement de grands volumes de données (recalage corps enti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Introduction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hodes de recal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05440" y="1538280"/>
            <a:ext cx="1344600" cy="1411200"/>
            <a:chOff x="505440" y="1538280"/>
            <a:chExt cx="1344600" cy="1411200"/>
          </a:xfrm>
        </p:grpSpPr>
        <p:sp>
          <p:nvSpPr>
            <p:cNvPr id="97" name=""/>
            <p:cNvSpPr/>
            <p:nvPr/>
          </p:nvSpPr>
          <p:spPr>
            <a:xfrm>
              <a:off x="505440" y="24897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7440" y="19180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9b03"/>
                  </a:solidFill>
                  <a:latin typeface="Times New Roman"/>
                </a:rPr>
                <a:t>3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3800" y="1538280"/>
              <a:ext cx="501480" cy="952560"/>
              <a:chOff x="793800" y="1538280"/>
              <a:chExt cx="501480" cy="952560"/>
            </a:xfrm>
          </p:grpSpPr>
          <p:sp>
            <p:nvSpPr>
              <p:cNvPr id="100" name=""/>
              <p:cNvSpPr/>
              <p:nvPr/>
            </p:nvSpPr>
            <p:spPr>
              <a:xfrm>
                <a:off x="793800" y="1538280"/>
                <a:ext cx="0" cy="95256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3800" y="2147760"/>
                <a:ext cx="501480" cy="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990720" y="2335680"/>
            <a:ext cx="2311920" cy="1031400"/>
            <a:chOff x="990720" y="2335680"/>
            <a:chExt cx="2311920" cy="1031400"/>
          </a:xfrm>
        </p:grpSpPr>
        <p:sp>
          <p:nvSpPr>
            <p:cNvPr id="103" name=""/>
            <p:cNvSpPr/>
            <p:nvPr/>
          </p:nvSpPr>
          <p:spPr>
            <a:xfrm>
              <a:off x="990720" y="29073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igi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5040" y="233568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9b03"/>
                  </a:solidFill>
                  <a:latin typeface="Times New Roman"/>
                </a:rPr>
                <a:t>Élast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428480" y="2336760"/>
              <a:ext cx="556920" cy="571680"/>
              <a:chOff x="1428480" y="2336760"/>
              <a:chExt cx="556920" cy="571680"/>
            </a:xfrm>
          </p:grpSpPr>
          <p:sp>
            <p:nvSpPr>
              <p:cNvPr id="106" name=""/>
              <p:cNvSpPr/>
              <p:nvPr/>
            </p:nvSpPr>
            <p:spPr>
              <a:xfrm>
                <a:off x="1428480" y="2336760"/>
                <a:ext cx="0" cy="57168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28480" y="2565360"/>
                <a:ext cx="556920" cy="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1895400" y="2772360"/>
            <a:ext cx="2161800" cy="1051920"/>
            <a:chOff x="1895400" y="2772360"/>
            <a:chExt cx="2161800" cy="1051920"/>
          </a:xfrm>
        </p:grpSpPr>
        <p:sp>
          <p:nvSpPr>
            <p:cNvPr id="109" name=""/>
            <p:cNvSpPr/>
            <p:nvPr/>
          </p:nvSpPr>
          <p:spPr>
            <a:xfrm>
              <a:off x="1895400" y="336456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ca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10240" y="277236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9b03"/>
                  </a:solidFill>
                  <a:latin typeface="Times New Roman"/>
                </a:rPr>
                <a:t>Globa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19200" y="2793960"/>
              <a:ext cx="557280" cy="571680"/>
              <a:chOff x="2419200" y="2793960"/>
              <a:chExt cx="557280" cy="571680"/>
            </a:xfrm>
          </p:grpSpPr>
          <p:sp>
            <p:nvSpPr>
              <p:cNvPr id="112" name=""/>
              <p:cNvSpPr/>
              <p:nvPr/>
            </p:nvSpPr>
            <p:spPr>
              <a:xfrm>
                <a:off x="2419200" y="2793960"/>
                <a:ext cx="0" cy="57168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19200" y="3022560"/>
                <a:ext cx="557280" cy="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4648680" y="4168800"/>
            <a:ext cx="3706920" cy="1141560"/>
            <a:chOff x="4648680" y="4168800"/>
            <a:chExt cx="3706920" cy="1141560"/>
          </a:xfrm>
        </p:grpSpPr>
        <p:sp>
          <p:nvSpPr>
            <p:cNvPr id="115" name=""/>
            <p:cNvSpPr/>
            <p:nvPr/>
          </p:nvSpPr>
          <p:spPr>
            <a:xfrm flipH="1">
              <a:off x="5383080" y="4168800"/>
              <a:ext cx="914400" cy="68976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97480" y="4168800"/>
              <a:ext cx="0" cy="74304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97480" y="4168800"/>
              <a:ext cx="914400" cy="68976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8680" y="473544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9b03"/>
                  </a:solidFill>
                  <a:latin typeface="Times New Roman"/>
                </a:rPr>
                <a:t>Surfa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55840" y="47354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m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97400" y="4587120"/>
              <a:ext cx="1258200" cy="7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ig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 crê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480" y="5410080"/>
            <a:ext cx="8001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hodes d’optim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chastique / Déterministe ; Globale / Lo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43080" y="3138840"/>
            <a:ext cx="3297960" cy="1091880"/>
            <a:chOff x="2143080" y="3138840"/>
            <a:chExt cx="3297960" cy="1091880"/>
          </a:xfrm>
        </p:grpSpPr>
        <p:grpSp>
          <p:nvGrpSpPr>
            <p:cNvPr id="123" name=""/>
            <p:cNvGrpSpPr/>
            <p:nvPr/>
          </p:nvGrpSpPr>
          <p:grpSpPr>
            <a:xfrm>
              <a:off x="3200400" y="3200400"/>
              <a:ext cx="557280" cy="571680"/>
              <a:chOff x="3200400" y="3200400"/>
              <a:chExt cx="557280" cy="571680"/>
            </a:xfrm>
          </p:grpSpPr>
          <p:sp>
            <p:nvSpPr>
              <p:cNvPr id="124" name=""/>
              <p:cNvSpPr/>
              <p:nvPr/>
            </p:nvSpPr>
            <p:spPr>
              <a:xfrm>
                <a:off x="3200400" y="3200400"/>
                <a:ext cx="0" cy="57168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00400" y="3429000"/>
                <a:ext cx="557280" cy="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681360" y="313884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e9b03"/>
                  </a:solidFill>
                  <a:latin typeface="Times New Roman"/>
                </a:rPr>
                <a:t>Multimoda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43080" y="3771000"/>
              <a:ext cx="18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Monomoda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97320" y="3423960"/>
            <a:ext cx="4044240" cy="1149480"/>
            <a:chOff x="3397320" y="3423960"/>
            <a:chExt cx="4044240" cy="1149480"/>
          </a:xfrm>
        </p:grpSpPr>
        <p:sp>
          <p:nvSpPr>
            <p:cNvPr id="129" name=""/>
            <p:cNvSpPr/>
            <p:nvPr/>
          </p:nvSpPr>
          <p:spPr>
            <a:xfrm>
              <a:off x="3397320" y="411372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olum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15680" y="3423960"/>
              <a:ext cx="22258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9b03"/>
                  </a:solidFill>
                  <a:latin typeface="Times New Roman"/>
                </a:rPr>
                <a:t>Caractéristiqu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9b03"/>
                  </a:solidFill>
                  <a:latin typeface="Times New Roman"/>
                </a:rPr>
                <a:t>géométriqu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491000" y="3581280"/>
              <a:ext cx="726840" cy="571680"/>
              <a:chOff x="4491000" y="3581280"/>
              <a:chExt cx="726840" cy="571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91000" y="3581280"/>
                <a:ext cx="0" cy="57168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91000" y="3809880"/>
                <a:ext cx="726840" cy="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893880" y="4114800"/>
            <a:ext cx="6726240" cy="1143000"/>
            <a:chOff x="893880" y="4114800"/>
            <a:chExt cx="6726240" cy="1143000"/>
          </a:xfrm>
        </p:grpSpPr>
        <p:sp>
          <p:nvSpPr>
            <p:cNvPr id="135" name=""/>
            <p:cNvSpPr/>
            <p:nvPr/>
          </p:nvSpPr>
          <p:spPr>
            <a:xfrm>
              <a:off x="1600200" y="4114800"/>
              <a:ext cx="6019920" cy="114300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19080">
              <a:solidFill>
                <a:srgbClr val="006c6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93880" y="4474080"/>
              <a:ext cx="374400" cy="459720"/>
              <a:chOff x="893880" y="4474080"/>
              <a:chExt cx="374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893880" y="4503600"/>
                <a:ext cx="374400" cy="374760"/>
              </a:xfrm>
              <a:prstGeom prst="ellipse">
                <a:avLst/>
              </a:prstGeom>
              <a:noFill/>
              <a:ln w="28440">
                <a:solidFill>
                  <a:srgbClr val="6dcf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03600" y="447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893880" y="2666880"/>
            <a:ext cx="6726240" cy="1371600"/>
            <a:chOff x="893880" y="2666880"/>
            <a:chExt cx="6726240" cy="1371600"/>
          </a:xfrm>
        </p:grpSpPr>
        <p:sp>
          <p:nvSpPr>
            <p:cNvPr id="140" name=""/>
            <p:cNvSpPr/>
            <p:nvPr/>
          </p:nvSpPr>
          <p:spPr>
            <a:xfrm>
              <a:off x="1600200" y="2666880"/>
              <a:ext cx="6019920" cy="1371600"/>
            </a:xfrm>
            <a:prstGeom prst="roundRect">
              <a:avLst>
                <a:gd name="adj" fmla="val 16667"/>
              </a:avLst>
            </a:prstGeom>
            <a:solidFill>
              <a:srgbClr val="325a78"/>
            </a:solidFill>
            <a:ln w="19080">
              <a:solidFill>
                <a:srgbClr val="fe9b0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893880" y="3123000"/>
              <a:ext cx="374400" cy="459720"/>
              <a:chOff x="893880" y="3123000"/>
              <a:chExt cx="374400" cy="459720"/>
            </a:xfrm>
          </p:grpSpPr>
          <p:sp>
            <p:nvSpPr>
              <p:cNvPr id="142" name=""/>
              <p:cNvSpPr/>
              <p:nvPr/>
            </p:nvSpPr>
            <p:spPr>
              <a:xfrm>
                <a:off x="893880" y="3152880"/>
                <a:ext cx="374400" cy="374400"/>
              </a:xfrm>
              <a:prstGeom prst="ellipse">
                <a:avLst/>
              </a:prstGeom>
              <a:noFill/>
              <a:ln w="2844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03600" y="312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Introduction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che utilisée - plan de l’expos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IRM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352520" cy="1041480"/>
          </a:xfrm>
          <a:prstGeom prst="rect">
            <a:avLst/>
          </a:prstGeom>
          <a:ln w="0">
            <a:noFill/>
          </a:ln>
        </p:spPr>
      </p:pic>
      <p:pic>
        <p:nvPicPr>
          <p:cNvPr id="147" name="TDM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1295280" cy="10350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1981080" y="1455480"/>
            <a:ext cx="5028840" cy="914760"/>
            <a:chOff x="1981080" y="1455480"/>
            <a:chExt cx="5028840" cy="914760"/>
          </a:xfrm>
        </p:grpSpPr>
        <p:grpSp>
          <p:nvGrpSpPr>
            <p:cNvPr id="149" name=""/>
            <p:cNvGrpSpPr/>
            <p:nvPr/>
          </p:nvGrpSpPr>
          <p:grpSpPr>
            <a:xfrm>
              <a:off x="1981080" y="1455480"/>
              <a:ext cx="1947600" cy="914760"/>
              <a:chOff x="1981080" y="1455480"/>
              <a:chExt cx="1947600" cy="914760"/>
            </a:xfrm>
          </p:grpSpPr>
          <p:sp>
            <p:nvSpPr>
              <p:cNvPr id="150" name=""/>
              <p:cNvSpPr/>
              <p:nvPr/>
            </p:nvSpPr>
            <p:spPr>
              <a:xfrm>
                <a:off x="2649960" y="1455480"/>
                <a:ext cx="1278720" cy="9147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f5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urfac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cann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981080" y="2057400"/>
                <a:ext cx="685800" cy="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038920" y="1455480"/>
              <a:ext cx="1971000" cy="914760"/>
              <a:chOff x="5038920" y="1455480"/>
              <a:chExt cx="1971000" cy="914760"/>
            </a:xfrm>
          </p:grpSpPr>
          <p:sp>
            <p:nvSpPr>
              <p:cNvPr id="153" name=""/>
              <p:cNvSpPr/>
              <p:nvPr/>
            </p:nvSpPr>
            <p:spPr>
              <a:xfrm>
                <a:off x="5038920" y="1455480"/>
                <a:ext cx="1278720" cy="9147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f5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urfac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R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6324120" y="2057400"/>
                <a:ext cx="685800" cy="0"/>
              </a:xfrm>
              <a:prstGeom prst="line">
                <a:avLst/>
              </a:prstGeom>
              <a:ln w="28440">
                <a:solidFill>
                  <a:srgbClr val="fff5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5038560" y="2362320"/>
            <a:ext cx="2170440" cy="1455480"/>
            <a:chOff x="5038560" y="2362320"/>
            <a:chExt cx="2170440" cy="1455480"/>
          </a:xfrm>
        </p:grpSpPr>
        <p:sp>
          <p:nvSpPr>
            <p:cNvPr id="156" name=""/>
            <p:cNvSpPr/>
            <p:nvPr/>
          </p:nvSpPr>
          <p:spPr>
            <a:xfrm>
              <a:off x="5038560" y="2903040"/>
              <a:ext cx="2170440" cy="914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èle d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15000" y="2362320"/>
              <a:ext cx="0" cy="53316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990440" y="2362320"/>
            <a:ext cx="3038400" cy="1455480"/>
            <a:chOff x="1990440" y="2362320"/>
            <a:chExt cx="3038400" cy="1455480"/>
          </a:xfrm>
        </p:grpSpPr>
        <p:sp>
          <p:nvSpPr>
            <p:cNvPr id="159" name=""/>
            <p:cNvSpPr/>
            <p:nvPr/>
          </p:nvSpPr>
          <p:spPr>
            <a:xfrm>
              <a:off x="1990440" y="2903040"/>
              <a:ext cx="1949400" cy="914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onctionnel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distanc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2362320"/>
              <a:ext cx="0" cy="53316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962160" y="3352680"/>
              <a:ext cx="106668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895480" y="3809520"/>
            <a:ext cx="3581640" cy="1303920"/>
            <a:chOff x="2895480" y="3809520"/>
            <a:chExt cx="3581640" cy="1303920"/>
          </a:xfrm>
        </p:grpSpPr>
        <p:sp>
          <p:nvSpPr>
            <p:cNvPr id="163" name=""/>
            <p:cNvSpPr/>
            <p:nvPr/>
          </p:nvSpPr>
          <p:spPr>
            <a:xfrm>
              <a:off x="3743280" y="4198680"/>
              <a:ext cx="1865520" cy="914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6dc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ptimis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énétiq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895480" y="3809880"/>
              <a:ext cx="838440" cy="838440"/>
              <a:chOff x="2895480" y="3809880"/>
              <a:chExt cx="838440" cy="838440"/>
            </a:xfrm>
          </p:grpSpPr>
          <p:sp>
            <p:nvSpPr>
              <p:cNvPr id="165" name=""/>
              <p:cNvSpPr/>
              <p:nvPr/>
            </p:nvSpPr>
            <p:spPr>
              <a:xfrm>
                <a:off x="2895480" y="3809880"/>
                <a:ext cx="0" cy="838440"/>
              </a:xfrm>
              <a:prstGeom prst="line">
                <a:avLst/>
              </a:prstGeom>
              <a:ln w="28440">
                <a:solidFill>
                  <a:srgbClr val="6dcf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95480" y="4648320"/>
                <a:ext cx="838440" cy="0"/>
              </a:xfrm>
              <a:prstGeom prst="line">
                <a:avLst/>
              </a:prstGeom>
              <a:ln w="28440">
                <a:solidFill>
                  <a:srgbClr val="6dcf9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638680" y="3809520"/>
              <a:ext cx="838440" cy="838440"/>
              <a:chOff x="5638680" y="3809520"/>
              <a:chExt cx="838440" cy="838440"/>
            </a:xfrm>
          </p:grpSpPr>
          <p:sp>
            <p:nvSpPr>
              <p:cNvPr id="168" name=""/>
              <p:cNvSpPr/>
              <p:nvPr/>
            </p:nvSpPr>
            <p:spPr>
              <a:xfrm>
                <a:off x="5638680" y="4647960"/>
                <a:ext cx="838440" cy="0"/>
              </a:xfrm>
              <a:prstGeom prst="line">
                <a:avLst/>
              </a:prstGeom>
              <a:ln w="28440">
                <a:solidFill>
                  <a:srgbClr val="6dcf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77120" y="3809520"/>
                <a:ext cx="0" cy="838440"/>
              </a:xfrm>
              <a:prstGeom prst="line">
                <a:avLst/>
              </a:prstGeom>
              <a:ln w="28440">
                <a:solidFill>
                  <a:srgbClr val="6dcf9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7407360" y="2550960"/>
            <a:ext cx="958680" cy="2833920"/>
            <a:chOff x="7407360" y="2550960"/>
            <a:chExt cx="958680" cy="2833920"/>
          </a:xfrm>
        </p:grpSpPr>
        <p:sp>
          <p:nvSpPr>
            <p:cNvPr id="171" name=""/>
            <p:cNvSpPr/>
            <p:nvPr/>
          </p:nvSpPr>
          <p:spPr>
            <a:xfrm>
              <a:off x="7407360" y="2550960"/>
              <a:ext cx="376200" cy="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07360" y="5375160"/>
              <a:ext cx="376200" cy="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783560" y="2550960"/>
              <a:ext cx="0" cy="2833920"/>
            </a:xfrm>
            <a:prstGeom prst="line">
              <a:avLst/>
            </a:prstGeom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91640" y="3759120"/>
              <a:ext cx="374400" cy="374760"/>
            </a:xfrm>
            <a:prstGeom prst="ellipse">
              <a:avLst/>
            </a:prstGeom>
            <a:noFill/>
            <a:ln w="28440">
              <a:solidFill>
                <a:srgbClr val="fff5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1000" y="372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564000" y="5121360"/>
            <a:ext cx="1740240" cy="975960"/>
            <a:chOff x="3564000" y="5121360"/>
            <a:chExt cx="1740240" cy="975960"/>
          </a:xfrm>
        </p:grpSpPr>
        <p:sp>
          <p:nvSpPr>
            <p:cNvPr id="177" name=""/>
            <p:cNvSpPr/>
            <p:nvPr/>
          </p:nvSpPr>
          <p:spPr>
            <a:xfrm>
              <a:off x="4648320" y="5121360"/>
              <a:ext cx="0" cy="517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03200" y="56376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ésulta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4000" y="5667480"/>
              <a:ext cx="374760" cy="3744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73720" y="563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Sommaire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Objectifs et approche utilis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odèles de dé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 de trans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èle rig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èle élast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ctionn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2. Optimisation géné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3. Algorithme robu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4. Résul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a3a3"/>
                </a:solidFill>
                <a:latin typeface="Arial"/>
              </a:rPr>
              <a:t>Conclusion et persp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es de trans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toto" descr=""/>
          <p:cNvPicPr/>
          <p:nvPr/>
        </p:nvPicPr>
        <p:blipFill>
          <a:blip r:embed="rId1"/>
          <a:srcRect l="0" t="0" r="0" b="11257"/>
          <a:stretch/>
        </p:blipFill>
        <p:spPr>
          <a:xfrm>
            <a:off x="1981080" y="2057400"/>
            <a:ext cx="5105520" cy="3641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854680" y="3378240"/>
            <a:ext cx="1143000" cy="1015920"/>
          </a:xfrm>
          <a:custGeom>
            <a:avLst/>
            <a:gdLst/>
            <a:ahLst/>
            <a:rect l="l" t="t" r="r" b="b"/>
            <a:pathLst>
              <a:path w="720" h="640">
                <a:moveTo>
                  <a:pt x="152" y="80"/>
                </a:moveTo>
                <a:cubicBezTo>
                  <a:pt x="76" y="132"/>
                  <a:pt x="0" y="184"/>
                  <a:pt x="8" y="272"/>
                </a:cubicBezTo>
                <a:cubicBezTo>
                  <a:pt x="16" y="360"/>
                  <a:pt x="104" y="576"/>
                  <a:pt x="200" y="608"/>
                </a:cubicBezTo>
                <a:cubicBezTo>
                  <a:pt x="296" y="640"/>
                  <a:pt x="504" y="528"/>
                  <a:pt x="584" y="464"/>
                </a:cubicBezTo>
                <a:cubicBezTo>
                  <a:pt x="664" y="400"/>
                  <a:pt x="720" y="296"/>
                  <a:pt x="680" y="224"/>
                </a:cubicBezTo>
                <a:cubicBezTo>
                  <a:pt x="640" y="152"/>
                  <a:pt x="440" y="64"/>
                  <a:pt x="344" y="32"/>
                </a:cubicBezTo>
                <a:cubicBezTo>
                  <a:pt x="248" y="0"/>
                  <a:pt x="160" y="8"/>
                  <a:pt x="104" y="32"/>
                </a:cubicBezTo>
                <a:cubicBezTo>
                  <a:pt x="48" y="56"/>
                  <a:pt x="24" y="152"/>
                  <a:pt x="8" y="176"/>
                </a:cubicBezTo>
              </a:path>
            </a:pathLst>
          </a:custGeom>
          <a:noFill/>
          <a:ln w="2844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92280" y="3409920"/>
            <a:ext cx="900360" cy="990720"/>
          </a:xfrm>
          <a:custGeom>
            <a:avLst/>
            <a:gdLst/>
            <a:ahLst/>
            <a:rect l="l" t="t" r="r" b="b"/>
            <a:pathLst>
              <a:path w="567" h="624">
                <a:moveTo>
                  <a:pt x="164" y="4"/>
                </a:moveTo>
                <a:cubicBezTo>
                  <a:pt x="137" y="50"/>
                  <a:pt x="0" y="177"/>
                  <a:pt x="0" y="275"/>
                </a:cubicBezTo>
                <a:cubicBezTo>
                  <a:pt x="0" y="373"/>
                  <a:pt x="85" y="558"/>
                  <a:pt x="164" y="591"/>
                </a:cubicBezTo>
                <a:cubicBezTo>
                  <a:pt x="243" y="624"/>
                  <a:pt x="409" y="550"/>
                  <a:pt x="472" y="476"/>
                </a:cubicBezTo>
                <a:cubicBezTo>
                  <a:pt x="535" y="402"/>
                  <a:pt x="567" y="224"/>
                  <a:pt x="542" y="145"/>
                </a:cubicBezTo>
                <a:cubicBezTo>
                  <a:pt x="517" y="66"/>
                  <a:pt x="411" y="8"/>
                  <a:pt x="322" y="4"/>
                </a:cubicBezTo>
                <a:cubicBezTo>
                  <a:pt x="233" y="0"/>
                  <a:pt x="72" y="98"/>
                  <a:pt x="6" y="122"/>
                </a:cubicBezTo>
              </a:path>
            </a:pathLst>
          </a:custGeom>
          <a:noFill/>
          <a:ln w="2844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 rig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ion + Rotation 3D (6 paramèt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433520" y="2120760"/>
                <a:ext cx="57834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822400" y="3836880"/>
                <a:ext cx="29908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  <m:e>
                                      <m:nary>
                                        <m:naryPr>
                                          <m:chr m:val="∑"/>
                                        </m:naryPr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=</m:t>
                                          </m:r>
                                          <m:r>
                                            <m:t xml:space="preserve">0</m:t>
                                          </m:r>
                                        </m:sub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  <m:e>
                                          <m:sSub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j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sSup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i</m:t>
                                              </m:r>
                                            </m:sup>
                                          </m:sSup>
                                          <m:sSup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j</m:t>
                                              </m:r>
                                            </m:sup>
                                          </m:sSup>
                                          <m:sSup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k</m:t>
                                              </m:r>
                                            </m:sup>
                                          </m:sSup>
                                        </m:e>
                                      </m:nary>
                                    </m:e>
                                  </m:nary>
                                </m:e>
                              </m:nary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  <m:e>
                                      <m:nary>
                                        <m:naryPr>
                                          <m:chr m:val="∑"/>
                                        </m:naryPr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=</m:t>
                                          </m:r>
                                          <m:r>
                                            <m:t xml:space="preserve">0</m:t>
                                          </m:r>
                                        </m:sub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  <m:e>
                                          <m:sSub>
                                            <m:e>
                                              <m:r>
                                                <m:t xml:space="preserve">b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j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sSup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i</m:t>
                                              </m:r>
                                            </m:sup>
                                          </m:sSup>
                                          <m:sSup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j</m:t>
                                              </m:r>
                                            </m:sup>
                                          </m:sSup>
                                          <m:sSup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k</m:t>
                                              </m:r>
                                            </m:sup>
                                          </m:sSup>
                                        </m:e>
                                      </m:nary>
                                    </m:e>
                                  </m:nary>
                                </m:e>
                              </m:nary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  <m:e>
                                      <m:nary>
                                        <m:naryPr>
                                          <m:chr m:val="∑"/>
                                        </m:naryPr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=</m:t>
                                          </m:r>
                                          <m:r>
                                            <m:t xml:space="preserve">0</m:t>
                                          </m:r>
                                        </m:sub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  <m:e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j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</m:sub>
                                          </m:sSub>
                                          <m:sSup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i</m:t>
                                              </m:r>
                                            </m:sup>
                                          </m:sSup>
                                          <m:sSup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j</m:t>
                                              </m:r>
                                            </m:sup>
                                          </m:sSup>
                                          <m:sSup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k</m:t>
                                              </m:r>
                                            </m:sup>
                                          </m:sSup>
                                        </m:e>
                                      </m:nary>
                                    </m:e>
                                  </m:nary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609480" y="2571840"/>
            <a:ext cx="800100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ormation élas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9319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lynomiale de degré 1 en chaque variable (transformation tri-linéaire à 24 paramèt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556e"/>
            </a:gs>
            <a:gs pos="100000">
              <a:srgbClr val="6fb7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07600" y="6453360"/>
            <a:ext cx="82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12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 Optimisation génétique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  Algorithme robuste            Résultats             Concl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527"/>
                </a:solidFill>
                <a:latin typeface="Times New Roman"/>
              </a:rPr>
              <a:t>Modèles de déformation</a:t>
            </a:r>
            <a:endParaRPr b="0" lang="en-US" sz="3600" spc="-1" strike="noStrike">
              <a:solidFill>
                <a:srgbClr val="fff527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527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priétés de la transformée tri-liné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nsformation élastique glob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odèle simple néanmoins les 24 paramètres n’ont pas d’interprétation géométrique direc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description par amers est possi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8840" y="3666240"/>
            <a:ext cx="6169320" cy="509400"/>
          </a:xfrm>
          <a:prstGeom prst="roundRect">
            <a:avLst>
              <a:gd name="adj" fmla="val 16667"/>
            </a:avLst>
          </a:prstGeom>
          <a:solidFill>
            <a:srgbClr val="325a7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 paramètres = 8 couples de points 3D distin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64000" y="4267080"/>
            <a:ext cx="457200" cy="673200"/>
          </a:xfrm>
          <a:prstGeom prst="downArrow">
            <a:avLst>
              <a:gd name="adj1" fmla="val 50000"/>
              <a:gd name="adj2" fmla="val 36811"/>
            </a:avLst>
          </a:prstGeom>
          <a:solidFill>
            <a:srgbClr val="325a7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5022720"/>
            <a:ext cx="6186600" cy="527040"/>
          </a:xfrm>
          <a:prstGeom prst="roundRect">
            <a:avLst>
              <a:gd name="adj" fmla="val 16667"/>
            </a:avLst>
          </a:prstGeom>
          <a:solidFill>
            <a:srgbClr val="325a7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orithme d’appariement d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9:09:54Z</dcterms:created>
  <dc:creator>Jean-Michel</dc:creator>
  <dc:description/>
  <dc:language>en-US</dc:language>
  <cp:lastModifiedBy>Ifremer</cp:lastModifiedBy>
  <cp:lastPrinted>1999-12-01T18:27:48Z</cp:lastPrinted>
  <dcterms:modified xsi:type="dcterms:W3CDTF">1999-12-07T16:17:42Z</dcterms:modified>
  <cp:revision>232</cp:revision>
  <dc:subject>soutenance de thèse</dc:subject>
  <dc:title>Recalage 3D élastique multimodatlités par optimisation génétique</dc:title>
</cp:coreProperties>
</file>